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3320" cy="6845760"/>
            <a:chOff x="44280" y="0"/>
            <a:chExt cx="3253320" cy="684576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600" cy="6836040"/>
              <a:chOff x="108000" y="9360"/>
              <a:chExt cx="318960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760"/>
              <a:chOff x="69840" y="0"/>
              <a:chExt cx="2976480" cy="684576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6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23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90000" cy="6772680"/>
              <a:chOff x="44280" y="73080"/>
              <a:chExt cx="2790000" cy="677268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6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800" cy="92520"/>
              </a:xfrm>
              <a:custGeom>
                <a:avLst/>
                <a:gdLst/>
                <a:ahLst/>
                <a:rect l="0" t="0" r="r" b="b"/>
                <a:pathLst>
                  <a:path w="230" h="257">
                    <a:moveTo>
                      <a:pt x="114" y="257"/>
                    </a:moveTo>
                    <a:lnTo>
                      <a:pt x="230" y="128"/>
                    </a:lnTo>
                    <a:lnTo>
                      <a:pt x="114" y="0"/>
                    </a:lnTo>
                    <a:lnTo>
                      <a:pt x="0" y="128"/>
                    </a:lnTo>
                    <a:lnTo>
                      <a:pt x="114" y="257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4600" cy="70200"/>
              </a:xfrm>
              <a:custGeom>
                <a:avLst/>
                <a:gdLst/>
                <a:ahLst/>
                <a:rect l="0" t="0" r="r" b="b"/>
                <a:pathLst>
                  <a:path w="235" h="195">
                    <a:moveTo>
                      <a:pt x="117" y="195"/>
                    </a:moveTo>
                    <a:lnTo>
                      <a:pt x="235" y="98"/>
                    </a:lnTo>
                    <a:lnTo>
                      <a:pt x="117" y="0"/>
                    </a:lnTo>
                    <a:lnTo>
                      <a:pt x="0" y="98"/>
                    </a:lnTo>
                    <a:lnTo>
                      <a:pt x="117" y="195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4240" cy="954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6280" cy="111600"/>
              </a:xfrm>
              <a:custGeom>
                <a:avLst/>
                <a:gdLst/>
                <a:ahLst/>
                <a:rect l="0" t="0" r="r" b="b"/>
                <a:pathLst>
                  <a:path w="323" h="310">
                    <a:moveTo>
                      <a:pt x="161" y="310"/>
                    </a:moveTo>
                    <a:lnTo>
                      <a:pt x="323" y="155"/>
                    </a:lnTo>
                    <a:lnTo>
                      <a:pt x="161" y="0"/>
                    </a:lnTo>
                    <a:lnTo>
                      <a:pt x="0" y="155"/>
                    </a:lnTo>
                    <a:lnTo>
                      <a:pt x="161" y="310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840" cy="93960"/>
              </a:xfrm>
              <a:custGeom>
                <a:avLst/>
                <a:gdLst/>
                <a:ahLst/>
                <a:rect l="0" t="0" r="r" b="b"/>
                <a:pathLst>
                  <a:path w="319" h="261">
                    <a:moveTo>
                      <a:pt x="159" y="261"/>
                    </a:moveTo>
                    <a:lnTo>
                      <a:pt x="319" y="131"/>
                    </a:lnTo>
                    <a:lnTo>
                      <a:pt x="159" y="0"/>
                    </a:lnTo>
                    <a:lnTo>
                      <a:pt x="0" y="131"/>
                    </a:lnTo>
                    <a:lnTo>
                      <a:pt x="159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6040" cy="70200"/>
              </a:xfrm>
              <a:custGeom>
                <a:avLst/>
                <a:gdLst/>
                <a:ahLst/>
                <a:rect l="0" t="0" r="r" b="b"/>
                <a:pathLst>
                  <a:path w="239" h="195">
                    <a:moveTo>
                      <a:pt x="120" y="195"/>
                    </a:moveTo>
                    <a:lnTo>
                      <a:pt x="239" y="98"/>
                    </a:lnTo>
                    <a:lnTo>
                      <a:pt x="120" y="0"/>
                    </a:lnTo>
                    <a:lnTo>
                      <a:pt x="0" y="98"/>
                    </a:lnTo>
                    <a:lnTo>
                      <a:pt x="120" y="195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440" cy="6791760"/>
              <a:chOff x="139680" y="25560"/>
              <a:chExt cx="2305440" cy="679176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560" cy="73440"/>
              </a:xfrm>
              <a:custGeom>
                <a:avLst/>
                <a:gdLst/>
                <a:ahLst/>
                <a:rect l="0" t="0" r="r" b="b"/>
                <a:pathLst>
                  <a:path w="221" h="204">
                    <a:moveTo>
                      <a:pt x="111" y="204"/>
                    </a:moveTo>
                    <a:lnTo>
                      <a:pt x="221" y="102"/>
                    </a:lnTo>
                    <a:lnTo>
                      <a:pt x="111" y="0"/>
                    </a:lnTo>
                    <a:lnTo>
                      <a:pt x="0" y="102"/>
                    </a:lnTo>
                    <a:lnTo>
                      <a:pt x="111" y="20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760" cy="76680"/>
              </a:xfrm>
              <a:custGeom>
                <a:avLst/>
                <a:gdLst/>
                <a:ahLst/>
                <a:rect l="0" t="0" r="r" b="b"/>
                <a:pathLst>
                  <a:path w="191" h="213">
                    <a:moveTo>
                      <a:pt x="95" y="213"/>
                    </a:moveTo>
                    <a:lnTo>
                      <a:pt x="191" y="106"/>
                    </a:lnTo>
                    <a:lnTo>
                      <a:pt x="95" y="0"/>
                    </a:lnTo>
                    <a:lnTo>
                      <a:pt x="0" y="106"/>
                    </a:lnTo>
                    <a:lnTo>
                      <a:pt x="95" y="21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560" cy="92520"/>
              </a:xfrm>
              <a:custGeom>
                <a:avLst/>
                <a:gdLst/>
                <a:ahLst/>
                <a:rect l="0" t="0" r="r" b="b"/>
                <a:pathLst>
                  <a:path w="221" h="257">
                    <a:moveTo>
                      <a:pt x="111" y="257"/>
                    </a:moveTo>
                    <a:lnTo>
                      <a:pt x="221" y="128"/>
                    </a:lnTo>
                    <a:lnTo>
                      <a:pt x="111" y="0"/>
                    </a:lnTo>
                    <a:lnTo>
                      <a:pt x="0" y="128"/>
                    </a:lnTo>
                    <a:lnTo>
                      <a:pt x="111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600" cy="6763320"/>
              <a:chOff x="133200" y="82440"/>
              <a:chExt cx="2856600" cy="676332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6280" cy="6698160"/>
                <a:chOff x="141120" y="82440"/>
                <a:chExt cx="2726280" cy="6698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360" cy="93960"/>
                </a:xfrm>
                <a:custGeom>
                  <a:avLst/>
                  <a:gdLst/>
                  <a:ahLst/>
                  <a:rect l="0" t="0" r="r" b="b"/>
                  <a:pathLst>
                    <a:path w="226" h="261">
                      <a:moveTo>
                        <a:pt x="113" y="261"/>
                      </a:moveTo>
                      <a:lnTo>
                        <a:pt x="226" y="131"/>
                      </a:lnTo>
                      <a:lnTo>
                        <a:pt x="113" y="0"/>
                      </a:lnTo>
                      <a:lnTo>
                        <a:pt x="0" y="131"/>
                      </a:lnTo>
                      <a:lnTo>
                        <a:pt x="113" y="261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9280" cy="63720"/>
                </a:xfrm>
                <a:custGeom>
                  <a:avLst/>
                  <a:gdLst/>
                  <a:ahLst/>
                  <a:rect l="0" t="0" r="r" b="b"/>
                  <a:pathLst>
                    <a:path w="248" h="177">
                      <a:moveTo>
                        <a:pt x="124" y="177"/>
                      </a:moveTo>
                      <a:lnTo>
                        <a:pt x="248" y="89"/>
                      </a:lnTo>
                      <a:lnTo>
                        <a:pt x="124" y="0"/>
                      </a:lnTo>
                      <a:lnTo>
                        <a:pt x="0" y="89"/>
                      </a:lnTo>
                      <a:lnTo>
                        <a:pt x="124" y="177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6040" cy="95760"/>
                </a:xfrm>
                <a:custGeom>
                  <a:avLst/>
                  <a:gdLst/>
                  <a:ahLst/>
                  <a:rect l="0" t="0" r="r" b="b"/>
                  <a:pathLst>
                    <a:path w="239" h="266">
                      <a:moveTo>
                        <a:pt x="120" y="266"/>
                      </a:moveTo>
                      <a:lnTo>
                        <a:pt x="239" y="133"/>
                      </a:lnTo>
                      <a:lnTo>
                        <a:pt x="120" y="0"/>
                      </a:lnTo>
                      <a:lnTo>
                        <a:pt x="0" y="133"/>
                      </a:lnTo>
                      <a:lnTo>
                        <a:pt x="120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920" cy="105120"/>
                </a:xfrm>
                <a:custGeom>
                  <a:avLst/>
                  <a:gdLst/>
                  <a:ahLst/>
                  <a:rect l="0" t="0" r="r" b="b"/>
                  <a:pathLst>
                    <a:path w="147" h="292">
                      <a:moveTo>
                        <a:pt x="73" y="292"/>
                      </a:moveTo>
                      <a:lnTo>
                        <a:pt x="147" y="145"/>
                      </a:lnTo>
                      <a:lnTo>
                        <a:pt x="73" y="0"/>
                      </a:lnTo>
                      <a:lnTo>
                        <a:pt x="0" y="145"/>
                      </a:lnTo>
                      <a:lnTo>
                        <a:pt x="73" y="29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0760" cy="57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600" cy="44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480" cy="65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4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40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22860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iseño de Interfase Hombre-Máqu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sion 11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rramientas de Exploración de la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go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uías de ori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rriculum y biograf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r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tas, periódicos, rev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cumentación y código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cicloped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los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ccio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bros de re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uías de viajes y restaur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vistas científ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uales de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anes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las geográ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etas de co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bros de aven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velas de miste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glas de oro del hiper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Cuándo tiene sentido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cha información organizada en muchos pedac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y relación entre los frag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l usuario sólo necesita unos cuantos fragmentos en cualquier mo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aracterísticas de la I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lementos de Conteni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m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olución, tamaño y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maño y administración de vent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aracterísticas de la I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canismos de sel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empo de respu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nel de control para video/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pacidad de invocar programas ex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aracterísticas de la I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ve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tructura del gra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blas múltiples de 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norama gráfico o tab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úsqueda por índice vs. palabra c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cadores de pos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aracterísticas de la I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gi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tios favor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toria de la nave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pacidad de an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ortación de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uardar estatus y resultados de búsque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ocer usuarios/t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a parte con significado al princi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quipo multidiscipli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unking - fragmentar lo 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rar l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sistencia en los nom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sta maestra de re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egurar la facilidad para recorrer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eñar cada pantalla con cuid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ja carga cogn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plicar la necesidad de herramientas para manejar grandes volúmenes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r cómo una buena interfase es requerida para dichas herrami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alizar las principales op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strateg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los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n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úsqu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onversión de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ndencia: La gran cantidad de información ya existente tendrá que ponerse al alcance de los nuevos medios, y organizarse en forma aco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ulti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à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i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onsulta grá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pre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orte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sultas diná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pas de ár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Organ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lecciones o conj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Ì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ccionario de Sinóni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bla de conte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úsqueda de 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emming: por lexema, soporta plural, conjugacion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undex: por problemas de ortografía y homóf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ximidad de pala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binaciones lógicas (Y, O, 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úsqueda de 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nónimos en lí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Índice de relev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ilares a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Índices de léxico limi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labra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onsulta a una 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mpos formateados: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sulta por ejemplo (Query by Example = Q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lenado de formas Q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úsquedas flexi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coiris: incluir atributos de texto (negrilla, en título, en no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pansión/cont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úsqueda de so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úsqueda de dibu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brerías de f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Hipertexto/hiper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bros electró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yper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aic -&gt;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plicaciones candida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go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tálogos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un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gani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uales de políticas y proced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portes an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UNO GUARDIA ROBLES</dc:creator>
  <dc:description/>
  <dc:language>en-US</dc:language>
  <cp:lastModifiedBy>BRUNO GUARDIA ROBLES</cp:lastModifiedBy>
  <cp:revision>0</cp:revision>
  <dc:subject/>
  <dc:title>DIHM-11</dc:title>
</cp:coreProperties>
</file>