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ón 9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ategias de ventanas mú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écnicas de coordinación de vent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zards: 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rboles de conte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c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ntana sincron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blero de instr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écnicas de coordinación de venta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umb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p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loración en 2D/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ertura y cierre automáticos de depend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ardar el estado de las vent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sar la aplicación de múltiples ventanas en el diseño de interfases mod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ultar múltiples fuentes rápidamente, sin distr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áfora del escr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da por la mayoría de los GUI mod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las vent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iling, non-overl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l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c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individu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rdes/Mar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rras de despla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cciones sobre las vent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er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oluciones al re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últiples monitores - ej. bolsa de valores, aeropue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ápido cambio de panta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ntalla dividida - paneles limitados - Mosa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aico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oluciones al re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ilas/cas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om/Panning automático (Pantalla compl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ximizar/minimizar controlado por el usu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 arbitrario - sobreposición li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 ROBLES</dc:creator>
  <dc:description/>
  <dc:language>en-US</dc:language>
  <cp:lastModifiedBy>BRUNO GUARDIA ROBLES</cp:lastModifiedBy>
  <cp:revision>0</cp:revision>
  <dc:subject/>
  <dc:title>DIHM-9</dc:title>
</cp:coreProperties>
</file>