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0"/>
            <a:ext cx="3253320" cy="6845760"/>
            <a:chOff x="44280" y="0"/>
            <a:chExt cx="3253320" cy="6845760"/>
          </a:xfrm>
        </p:grpSpPr>
        <p:grpSp>
          <p:nvGrpSpPr>
            <p:cNvPr id="1" name=""/>
            <p:cNvGrpSpPr/>
            <p:nvPr/>
          </p:nvGrpSpPr>
          <p:grpSpPr>
            <a:xfrm>
              <a:off x="108000" y="9360"/>
              <a:ext cx="3189600" cy="6836040"/>
              <a:chOff x="108000" y="9360"/>
              <a:chExt cx="3189600" cy="6836040"/>
            </a:xfrm>
          </p:grpSpPr>
          <p:sp>
            <p:nvSpPr>
              <p:cNvPr id="2" name=""/>
              <p:cNvSpPr/>
              <p:nvPr/>
            </p:nvSpPr>
            <p:spPr>
              <a:xfrm>
                <a:off x="1330200" y="13780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779480" y="996840"/>
                <a:ext cx="22320" cy="25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218040" y="936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69960" y="673416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62280" y="460440"/>
                <a:ext cx="73080" cy="8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08000" y="2890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7360" y="123840"/>
                <a:ext cx="88920" cy="6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5440" y="44280"/>
                <a:ext cx="84240" cy="95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5400" y="6676920"/>
                <a:ext cx="856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25900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3200" y="678168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2840" y="6676920"/>
                <a:ext cx="87480" cy="66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69840" y="0"/>
              <a:ext cx="2976480" cy="6845760"/>
              <a:chOff x="69840" y="0"/>
              <a:chExt cx="2976480" cy="6845760"/>
            </a:xfrm>
          </p:grpSpPr>
          <p:sp>
            <p:nvSpPr>
              <p:cNvPr id="15" name=""/>
              <p:cNvSpPr/>
              <p:nvPr/>
            </p:nvSpPr>
            <p:spPr>
              <a:xfrm>
                <a:off x="1725480" y="16002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17720" y="116856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965320" y="307800"/>
                <a:ext cx="81000" cy="936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36800" y="162396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7120" y="6426360"/>
                <a:ext cx="856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3680" y="169560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77920" y="1449360"/>
                <a:ext cx="223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04760" y="24624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9920" y="67320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0440" y="0"/>
                <a:ext cx="88920" cy="6516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21040" y="1206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770120" y="596880"/>
                <a:ext cx="84240" cy="95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52440" y="663588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06600" y="6654960"/>
                <a:ext cx="874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5252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9840" y="3595680"/>
                <a:ext cx="4932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641680" y="6635880"/>
                <a:ext cx="85680" cy="684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44280" y="73080"/>
              <a:ext cx="2790000" cy="6772680"/>
              <a:chOff x="44280" y="73080"/>
              <a:chExt cx="2790000" cy="6772680"/>
            </a:xfrm>
          </p:grpSpPr>
          <p:sp>
            <p:nvSpPr>
              <p:cNvPr id="33" name=""/>
              <p:cNvSpPr/>
              <p:nvPr/>
            </p:nvSpPr>
            <p:spPr>
              <a:xfrm>
                <a:off x="1924200" y="120492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98760" y="969840"/>
                <a:ext cx="88920" cy="666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65240" y="78732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25680" y="10922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53960" y="2516040"/>
                <a:ext cx="82800" cy="92520"/>
              </a:xfrm>
              <a:custGeom>
                <a:avLst/>
                <a:gdLst/>
                <a:ahLst/>
                <a:rect l="0" t="0" r="r" b="b"/>
                <a:pathLst>
                  <a:path w="230" h="257">
                    <a:moveTo>
                      <a:pt x="114" y="257"/>
                    </a:moveTo>
                    <a:lnTo>
                      <a:pt x="230" y="128"/>
                    </a:lnTo>
                    <a:lnTo>
                      <a:pt x="114" y="0"/>
                    </a:lnTo>
                    <a:lnTo>
                      <a:pt x="0" y="128"/>
                    </a:lnTo>
                    <a:lnTo>
                      <a:pt x="114" y="257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74840" y="1746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2880" y="1825560"/>
                <a:ext cx="84600" cy="70200"/>
              </a:xfrm>
              <a:custGeom>
                <a:avLst/>
                <a:gdLst/>
                <a:ahLst/>
                <a:rect l="0" t="0" r="r" b="b"/>
                <a:pathLst>
                  <a:path w="235" h="195">
                    <a:moveTo>
                      <a:pt x="117" y="195"/>
                    </a:moveTo>
                    <a:lnTo>
                      <a:pt x="235" y="98"/>
                    </a:lnTo>
                    <a:lnTo>
                      <a:pt x="117" y="0"/>
                    </a:lnTo>
                    <a:lnTo>
                      <a:pt x="0" y="98"/>
                    </a:lnTo>
                    <a:lnTo>
                      <a:pt x="117" y="195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84040" y="387360"/>
                <a:ext cx="88920" cy="65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4880" y="390600"/>
                <a:ext cx="38160" cy="270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644480" y="632160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6600" y="1429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06480" y="730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93800" y="124920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6120" y="1427040"/>
                <a:ext cx="89280" cy="63720"/>
              </a:xfrm>
              <a:custGeom>
                <a:avLst/>
                <a:gdLst/>
                <a:ahLst/>
                <a:rect l="0" t="0" r="r" b="b"/>
                <a:pathLst>
                  <a:path w="248" h="177">
                    <a:moveTo>
                      <a:pt x="124" y="177"/>
                    </a:moveTo>
                    <a:lnTo>
                      <a:pt x="248" y="89"/>
                    </a:lnTo>
                    <a:lnTo>
                      <a:pt x="124" y="0"/>
                    </a:lnTo>
                    <a:lnTo>
                      <a:pt x="0" y="89"/>
                    </a:lnTo>
                    <a:lnTo>
                      <a:pt x="124" y="177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4000" y="6271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55680" y="463680"/>
                <a:ext cx="34920" cy="3816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78240" y="311040"/>
                <a:ext cx="84240" cy="954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5440" y="3110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66880" y="349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9160" y="59691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89000" y="671184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6044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280" y="675468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9000" y="667368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90560" y="6734160"/>
                <a:ext cx="116280" cy="111600"/>
              </a:xfrm>
              <a:custGeom>
                <a:avLst/>
                <a:gdLst/>
                <a:ahLst/>
                <a:rect l="0" t="0" r="r" b="b"/>
                <a:pathLst>
                  <a:path w="323" h="310">
                    <a:moveTo>
                      <a:pt x="161" y="310"/>
                    </a:moveTo>
                    <a:lnTo>
                      <a:pt x="323" y="155"/>
                    </a:lnTo>
                    <a:lnTo>
                      <a:pt x="161" y="0"/>
                    </a:lnTo>
                    <a:lnTo>
                      <a:pt x="0" y="155"/>
                    </a:lnTo>
                    <a:lnTo>
                      <a:pt x="161" y="310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2640" y="675000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8640" y="655632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1280" y="6599160"/>
                <a:ext cx="114840" cy="93960"/>
              </a:xfrm>
              <a:custGeom>
                <a:avLst/>
                <a:gdLst/>
                <a:ahLst/>
                <a:rect l="0" t="0" r="r" b="b"/>
                <a:pathLst>
                  <a:path w="319" h="261">
                    <a:moveTo>
                      <a:pt x="159" y="261"/>
                    </a:moveTo>
                    <a:lnTo>
                      <a:pt x="319" y="131"/>
                    </a:lnTo>
                    <a:lnTo>
                      <a:pt x="159" y="0"/>
                    </a:lnTo>
                    <a:lnTo>
                      <a:pt x="0" y="131"/>
                    </a:lnTo>
                    <a:lnTo>
                      <a:pt x="159" y="261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78240" y="671184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49680" y="67500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6800" y="6673680"/>
                <a:ext cx="86040" cy="95760"/>
              </a:xfrm>
              <a:custGeom>
                <a:avLst/>
                <a:gdLst/>
                <a:ahLst/>
                <a:rect l="0" t="0" r="r" b="b"/>
                <a:pathLst>
                  <a:path w="239" h="266">
                    <a:moveTo>
                      <a:pt x="120" y="266"/>
                    </a:moveTo>
                    <a:lnTo>
                      <a:pt x="239" y="133"/>
                    </a:lnTo>
                    <a:lnTo>
                      <a:pt x="120" y="0"/>
                    </a:lnTo>
                    <a:lnTo>
                      <a:pt x="0" y="133"/>
                    </a:lnTo>
                    <a:lnTo>
                      <a:pt x="120" y="266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440" y="1368360"/>
                <a:ext cx="86040" cy="70200"/>
              </a:xfrm>
              <a:custGeom>
                <a:avLst/>
                <a:gdLst/>
                <a:ahLst/>
                <a:rect l="0" t="0" r="r" b="b"/>
                <a:pathLst>
                  <a:path w="239" h="195">
                    <a:moveTo>
                      <a:pt x="120" y="195"/>
                    </a:moveTo>
                    <a:lnTo>
                      <a:pt x="239" y="98"/>
                    </a:lnTo>
                    <a:lnTo>
                      <a:pt x="120" y="0"/>
                    </a:lnTo>
                    <a:lnTo>
                      <a:pt x="0" y="98"/>
                    </a:lnTo>
                    <a:lnTo>
                      <a:pt x="120" y="195"/>
                    </a:lnTo>
                    <a:close/>
                  </a:path>
                </a:pathLst>
              </a:custGeom>
              <a:solidFill>
                <a:srgbClr val="ff7f1f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39680" y="25560"/>
              <a:ext cx="2305440" cy="6791760"/>
              <a:chOff x="139680" y="25560"/>
              <a:chExt cx="2305440" cy="6791760"/>
            </a:xfrm>
          </p:grpSpPr>
          <p:sp>
            <p:nvSpPr>
              <p:cNvPr id="66" name=""/>
              <p:cNvSpPr/>
              <p:nvPr/>
            </p:nvSpPr>
            <p:spPr>
              <a:xfrm>
                <a:off x="787320" y="149220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52800" y="939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5040" y="2852640"/>
                <a:ext cx="81000" cy="93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2120" y="305928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9680" y="2046240"/>
                <a:ext cx="84240" cy="66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87560" y="317520"/>
                <a:ext cx="87840" cy="66960"/>
              </a:xfrm>
              <a:custGeom>
                <a:avLst/>
                <a:gdLst/>
                <a:ahLst/>
                <a:rect l="0" t="0" r="r" b="b"/>
                <a:pathLst>
                  <a:path w="244" h="186">
                    <a:moveTo>
                      <a:pt x="122" y="186"/>
                    </a:moveTo>
                    <a:lnTo>
                      <a:pt x="244" y="92"/>
                    </a:lnTo>
                    <a:lnTo>
                      <a:pt x="122" y="0"/>
                    </a:lnTo>
                    <a:lnTo>
                      <a:pt x="0" y="92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9120" y="701640"/>
                <a:ext cx="87480" cy="633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4440" y="249120"/>
                <a:ext cx="87840" cy="65520"/>
              </a:xfrm>
              <a:custGeom>
                <a:avLst/>
                <a:gdLst/>
                <a:ahLst/>
                <a:rect l="0" t="0" r="r" b="b"/>
                <a:pathLst>
                  <a:path w="244" h="182">
                    <a:moveTo>
                      <a:pt x="122" y="182"/>
                    </a:moveTo>
                    <a:lnTo>
                      <a:pt x="244" y="91"/>
                    </a:lnTo>
                    <a:lnTo>
                      <a:pt x="122" y="0"/>
                    </a:lnTo>
                    <a:lnTo>
                      <a:pt x="0" y="91"/>
                    </a:lnTo>
                    <a:lnTo>
                      <a:pt x="122" y="182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7360" y="97164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7808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3240" y="6159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5120" y="601992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9040" y="6743880"/>
                <a:ext cx="79560" cy="73440"/>
              </a:xfrm>
              <a:custGeom>
                <a:avLst/>
                <a:gdLst/>
                <a:ahLst/>
                <a:rect l="0" t="0" r="r" b="b"/>
                <a:pathLst>
                  <a:path w="221" h="204">
                    <a:moveTo>
                      <a:pt x="111" y="204"/>
                    </a:moveTo>
                    <a:lnTo>
                      <a:pt x="221" y="102"/>
                    </a:lnTo>
                    <a:lnTo>
                      <a:pt x="111" y="0"/>
                    </a:lnTo>
                    <a:lnTo>
                      <a:pt x="0" y="102"/>
                    </a:lnTo>
                    <a:lnTo>
                      <a:pt x="111" y="20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6080" y="54864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76360" y="25560"/>
                <a:ext cx="68760" cy="76680"/>
              </a:xfrm>
              <a:custGeom>
                <a:avLst/>
                <a:gdLst/>
                <a:ahLst/>
                <a:rect l="0" t="0" r="r" b="b"/>
                <a:pathLst>
                  <a:path w="191" h="213">
                    <a:moveTo>
                      <a:pt x="95" y="213"/>
                    </a:moveTo>
                    <a:lnTo>
                      <a:pt x="191" y="106"/>
                    </a:lnTo>
                    <a:lnTo>
                      <a:pt x="95" y="0"/>
                    </a:lnTo>
                    <a:lnTo>
                      <a:pt x="0" y="106"/>
                    </a:lnTo>
                    <a:lnTo>
                      <a:pt x="95" y="21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7680" y="633420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11400" y="6496200"/>
                <a:ext cx="79560" cy="92520"/>
              </a:xfrm>
              <a:custGeom>
                <a:avLst/>
                <a:gdLst/>
                <a:ahLst/>
                <a:rect l="0" t="0" r="r" b="b"/>
                <a:pathLst>
                  <a:path w="221" h="257">
                    <a:moveTo>
                      <a:pt x="111" y="257"/>
                    </a:moveTo>
                    <a:lnTo>
                      <a:pt x="221" y="128"/>
                    </a:lnTo>
                    <a:lnTo>
                      <a:pt x="111" y="0"/>
                    </a:lnTo>
                    <a:lnTo>
                      <a:pt x="0" y="128"/>
                    </a:lnTo>
                    <a:lnTo>
                      <a:pt x="111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7160" y="6591240"/>
                <a:ext cx="81360" cy="92520"/>
              </a:xfrm>
              <a:custGeom>
                <a:avLst/>
                <a:gdLst/>
                <a:ahLst/>
                <a:rect l="0" t="0" r="r" b="b"/>
                <a:pathLst>
                  <a:path w="226" h="257">
                    <a:moveTo>
                      <a:pt x="113" y="257"/>
                    </a:moveTo>
                    <a:lnTo>
                      <a:pt x="226" y="128"/>
                    </a:lnTo>
                    <a:lnTo>
                      <a:pt x="113" y="0"/>
                    </a:lnTo>
                    <a:lnTo>
                      <a:pt x="0" y="128"/>
                    </a:lnTo>
                    <a:lnTo>
                      <a:pt x="113" y="25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33200" y="82440"/>
              <a:ext cx="2856600" cy="6763320"/>
              <a:chOff x="133200" y="82440"/>
              <a:chExt cx="2856600" cy="676332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41120" y="82440"/>
                <a:ext cx="2726280" cy="6698160"/>
                <a:chOff x="141120" y="82440"/>
                <a:chExt cx="2726280" cy="6698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5200" y="3606840"/>
                  <a:ext cx="81360" cy="93960"/>
                </a:xfrm>
                <a:custGeom>
                  <a:avLst/>
                  <a:gdLst/>
                  <a:ahLst/>
                  <a:rect l="0" t="0" r="r" b="b"/>
                  <a:pathLst>
                    <a:path w="226" h="261">
                      <a:moveTo>
                        <a:pt x="113" y="261"/>
                      </a:moveTo>
                      <a:lnTo>
                        <a:pt x="226" y="131"/>
                      </a:lnTo>
                      <a:lnTo>
                        <a:pt x="113" y="0"/>
                      </a:lnTo>
                      <a:lnTo>
                        <a:pt x="0" y="131"/>
                      </a:lnTo>
                      <a:lnTo>
                        <a:pt x="113" y="261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8640" y="4427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9240" y="784080"/>
                  <a:ext cx="88920" cy="6516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1120" y="993600"/>
                  <a:ext cx="89280" cy="63720"/>
                </a:xfrm>
                <a:custGeom>
                  <a:avLst/>
                  <a:gdLst/>
                  <a:ahLst/>
                  <a:rect l="0" t="0" r="r" b="b"/>
                  <a:pathLst>
                    <a:path w="248" h="177">
                      <a:moveTo>
                        <a:pt x="124" y="177"/>
                      </a:moveTo>
                      <a:lnTo>
                        <a:pt x="248" y="89"/>
                      </a:lnTo>
                      <a:lnTo>
                        <a:pt x="124" y="0"/>
                      </a:lnTo>
                      <a:lnTo>
                        <a:pt x="0" y="89"/>
                      </a:lnTo>
                      <a:lnTo>
                        <a:pt x="124" y="177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74680" y="349200"/>
                  <a:ext cx="84240" cy="954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49680" y="8244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3920" y="6445080"/>
                  <a:ext cx="86040" cy="95760"/>
                </a:xfrm>
                <a:custGeom>
                  <a:avLst/>
                  <a:gdLst/>
                  <a:ahLst/>
                  <a:rect l="0" t="0" r="r" b="b"/>
                  <a:pathLst>
                    <a:path w="239" h="266">
                      <a:moveTo>
                        <a:pt x="120" y="266"/>
                      </a:moveTo>
                      <a:lnTo>
                        <a:pt x="239" y="133"/>
                      </a:lnTo>
                      <a:lnTo>
                        <a:pt x="120" y="0"/>
                      </a:lnTo>
                      <a:lnTo>
                        <a:pt x="0" y="133"/>
                      </a:lnTo>
                      <a:lnTo>
                        <a:pt x="120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101680" y="6713640"/>
                  <a:ext cx="86040" cy="66960"/>
                </a:xfrm>
                <a:custGeom>
                  <a:avLst/>
                  <a:gdLst/>
                  <a:ahLst/>
                  <a:rect l="0" t="0" r="r" b="b"/>
                  <a:pathLst>
                    <a:path w="239" h="186">
                      <a:moveTo>
                        <a:pt x="120" y="186"/>
                      </a:moveTo>
                      <a:lnTo>
                        <a:pt x="239" y="92"/>
                      </a:lnTo>
                      <a:lnTo>
                        <a:pt x="120" y="0"/>
                      </a:lnTo>
                      <a:lnTo>
                        <a:pt x="0" y="92"/>
                      </a:lnTo>
                      <a:lnTo>
                        <a:pt x="120" y="18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49400" y="6642000"/>
                  <a:ext cx="52920" cy="105120"/>
                </a:xfrm>
                <a:custGeom>
                  <a:avLst/>
                  <a:gdLst/>
                  <a:ahLst/>
                  <a:rect l="0" t="0" r="r" b="b"/>
                  <a:pathLst>
                    <a:path w="147" h="292">
                      <a:moveTo>
                        <a:pt x="73" y="292"/>
                      </a:moveTo>
                      <a:lnTo>
                        <a:pt x="147" y="145"/>
                      </a:lnTo>
                      <a:lnTo>
                        <a:pt x="73" y="0"/>
                      </a:lnTo>
                      <a:lnTo>
                        <a:pt x="0" y="145"/>
                      </a:lnTo>
                      <a:lnTo>
                        <a:pt x="73" y="292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82800" y="6445080"/>
                  <a:ext cx="84600" cy="95760"/>
                </a:xfrm>
                <a:custGeom>
                  <a:avLst/>
                  <a:gdLst/>
                  <a:ahLst/>
                  <a:rect l="0" t="0" r="r" b="b"/>
                  <a:pathLst>
                    <a:path w="235" h="266">
                      <a:moveTo>
                        <a:pt x="117" y="266"/>
                      </a:moveTo>
                      <a:lnTo>
                        <a:pt x="235" y="133"/>
                      </a:lnTo>
                      <a:lnTo>
                        <a:pt x="117" y="0"/>
                      </a:lnTo>
                      <a:lnTo>
                        <a:pt x="0" y="133"/>
                      </a:lnTo>
                      <a:lnTo>
                        <a:pt x="117" y="266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158840" y="6311880"/>
                <a:ext cx="86040" cy="68760"/>
              </a:xfrm>
              <a:custGeom>
                <a:avLst/>
                <a:gdLst/>
                <a:ahLst/>
                <a:rect l="0" t="0" r="r" b="b"/>
                <a:pathLst>
                  <a:path w="239" h="191">
                    <a:moveTo>
                      <a:pt x="120" y="191"/>
                    </a:moveTo>
                    <a:lnTo>
                      <a:pt x="239" y="95"/>
                    </a:lnTo>
                    <a:lnTo>
                      <a:pt x="120" y="0"/>
                    </a:lnTo>
                    <a:lnTo>
                      <a:pt x="0" y="95"/>
                    </a:lnTo>
                    <a:lnTo>
                      <a:pt x="120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6440" y="1149480"/>
                <a:ext cx="88920" cy="66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360" y="536400"/>
                <a:ext cx="89280" cy="65520"/>
              </a:xfrm>
              <a:custGeom>
                <a:avLst/>
                <a:gdLst/>
                <a:ahLst/>
                <a:rect l="0" t="0" r="r" b="b"/>
                <a:pathLst>
                  <a:path w="248" h="182">
                    <a:moveTo>
                      <a:pt x="124" y="182"/>
                    </a:moveTo>
                    <a:lnTo>
                      <a:pt x="248" y="91"/>
                    </a:lnTo>
                    <a:lnTo>
                      <a:pt x="124" y="0"/>
                    </a:lnTo>
                    <a:lnTo>
                      <a:pt x="0" y="91"/>
                    </a:lnTo>
                    <a:lnTo>
                      <a:pt x="124" y="18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12720" y="120600"/>
                <a:ext cx="50760" cy="57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28840" y="66927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6751800"/>
                <a:ext cx="79560" cy="93960"/>
              </a:xfrm>
              <a:custGeom>
                <a:avLst/>
                <a:gdLst/>
                <a:ahLst/>
                <a:rect l="0" t="0" r="r" b="b"/>
                <a:pathLst>
                  <a:path w="221" h="261">
                    <a:moveTo>
                      <a:pt x="111" y="261"/>
                    </a:moveTo>
                    <a:lnTo>
                      <a:pt x="221" y="131"/>
                    </a:lnTo>
                    <a:lnTo>
                      <a:pt x="111" y="0"/>
                    </a:lnTo>
                    <a:lnTo>
                      <a:pt x="0" y="131"/>
                    </a:lnTo>
                    <a:lnTo>
                      <a:pt x="111" y="2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3680" y="667872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0280" y="593568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3200" y="64929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01960" y="677700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82840" y="6751800"/>
                <a:ext cx="81360" cy="93960"/>
              </a:xfrm>
              <a:custGeom>
                <a:avLst/>
                <a:gdLst/>
                <a:ahLst/>
                <a:rect l="0" t="0" r="r" b="b"/>
                <a:pathLst>
                  <a:path w="226" h="261">
                    <a:moveTo>
                      <a:pt x="113" y="261"/>
                    </a:moveTo>
                    <a:lnTo>
                      <a:pt x="226" y="131"/>
                    </a:lnTo>
                    <a:lnTo>
                      <a:pt x="113" y="0"/>
                    </a:lnTo>
                    <a:lnTo>
                      <a:pt x="0" y="131"/>
                    </a:lnTo>
                    <a:lnTo>
                      <a:pt x="113" y="2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000" y="25560"/>
              <a:ext cx="2625840" cy="6781680"/>
              <a:chOff x="54000" y="25560"/>
              <a:chExt cx="2625840" cy="678168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3720" y="1546200"/>
                <a:ext cx="73080" cy="82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0080" y="4192560"/>
                <a:ext cx="39600" cy="44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93920" y="326880"/>
                <a:ext cx="8748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47760" y="1825560"/>
                <a:ext cx="87840" cy="68760"/>
              </a:xfrm>
              <a:custGeom>
                <a:avLst/>
                <a:gdLst/>
                <a:ahLst/>
                <a:rect l="0" t="0" r="r" b="b"/>
                <a:pathLst>
                  <a:path w="244" h="191">
                    <a:moveTo>
                      <a:pt x="122" y="191"/>
                    </a:moveTo>
                    <a:lnTo>
                      <a:pt x="244" y="95"/>
                    </a:lnTo>
                    <a:lnTo>
                      <a:pt x="122" y="0"/>
                    </a:lnTo>
                    <a:lnTo>
                      <a:pt x="0" y="95"/>
                    </a:lnTo>
                    <a:lnTo>
                      <a:pt x="122" y="19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654120"/>
                <a:ext cx="89280" cy="66960"/>
              </a:xfrm>
              <a:custGeom>
                <a:avLst/>
                <a:gdLst/>
                <a:ahLst/>
                <a:rect l="0" t="0" r="r" b="b"/>
                <a:pathLst>
                  <a:path w="248" h="186">
                    <a:moveTo>
                      <a:pt x="124" y="186"/>
                    </a:moveTo>
                    <a:lnTo>
                      <a:pt x="248" y="92"/>
                    </a:lnTo>
                    <a:lnTo>
                      <a:pt x="124" y="0"/>
                    </a:lnTo>
                    <a:lnTo>
                      <a:pt x="0" y="92"/>
                    </a:lnTo>
                    <a:lnTo>
                      <a:pt x="124" y="1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0168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000" y="61920"/>
                <a:ext cx="87480" cy="65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3240" y="406440"/>
                <a:ext cx="84240" cy="95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66880" y="25560"/>
                <a:ext cx="84600" cy="95760"/>
              </a:xfrm>
              <a:custGeom>
                <a:avLst/>
                <a:gdLst/>
                <a:ahLst/>
                <a:rect l="0" t="0" r="r" b="b"/>
                <a:pathLst>
                  <a:path w="235" h="266">
                    <a:moveTo>
                      <a:pt x="117" y="266"/>
                    </a:moveTo>
                    <a:lnTo>
                      <a:pt x="235" y="133"/>
                    </a:lnTo>
                    <a:lnTo>
                      <a:pt x="117" y="0"/>
                    </a:lnTo>
                    <a:lnTo>
                      <a:pt x="0" y="133"/>
                    </a:lnTo>
                    <a:lnTo>
                      <a:pt x="117" y="26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8000" y="6527880"/>
                <a:ext cx="554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30240" y="6735600"/>
                <a:ext cx="84240" cy="68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840" y="6759720"/>
                <a:ext cx="74520" cy="47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6200" y="6264360"/>
                <a:ext cx="33480" cy="96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3160" y="6064200"/>
                <a:ext cx="22320" cy="73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90920" y="6702480"/>
                <a:ext cx="8892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5440" y="6527880"/>
                <a:ext cx="57240" cy="66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6320" y="993600"/>
                <a:ext cx="68400" cy="69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22860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Diseño de Interfase Hombre-Máqu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sion 10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rabajo colab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Tecnolog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oup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ork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ocer las tendencias del trabajo colaborativo apoyados por comput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ocer tecnologías de vanguardia basadas en el concep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etas de la colabo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ios que se complemen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mo o plà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ios neces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ferencia particip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etas de la colabo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ferencia dirig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rabajo estructu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la de juntas 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Tipos de sistemas cooper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iempo vs. distan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ìncrono: tiempo y lugar disti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íncrono: mismo tiempo, distinto l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a a c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Interacción asínc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-mail: simple, 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il estructu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BSs, News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arch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cesos estructurados: CASE, disc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Interacción sínc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ditores y hojas de cálculo compart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lecon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deóf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ara a c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ntalla compart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idades de respuesta de la audiencia: ej. One-to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luvia de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o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artición archivos/docu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ividades de trabajo en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10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De qué maneras se trabaja en grupo en la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Como mejoraría el trabajo la facilidad en la comunic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Dónde está centralizado el trabaj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ómo se afecta la privac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¿Qué fuentes de fricción exis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ivel de sofisticación de la 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ómo se evalúa el éx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UNO GUARDIA ROBLES</dc:creator>
  <dc:description/>
  <dc:language>en-US</dc:language>
  <cp:lastModifiedBy>Campus Ciudad de México</cp:lastModifiedBy>
  <cp:revision>0</cp:revision>
  <dc:subject/>
  <dc:title>DIHM-3</dc:title>
</cp:coreProperties>
</file>