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4280" y="0"/>
            <a:ext cx="3252960" cy="6845400"/>
            <a:chOff x="44280" y="0"/>
            <a:chExt cx="3252960" cy="6845400"/>
          </a:xfrm>
        </p:grpSpPr>
        <p:grpSp>
          <p:nvGrpSpPr>
            <p:cNvPr id="1" name=""/>
            <p:cNvGrpSpPr/>
            <p:nvPr/>
          </p:nvGrpSpPr>
          <p:grpSpPr>
            <a:xfrm>
              <a:off x="108000" y="9360"/>
              <a:ext cx="3189240" cy="6836040"/>
              <a:chOff x="108000" y="9360"/>
              <a:chExt cx="3189240" cy="6836040"/>
            </a:xfrm>
          </p:grpSpPr>
          <p:sp>
            <p:nvSpPr>
              <p:cNvPr id="2" name=""/>
              <p:cNvSpPr/>
              <p:nvPr/>
            </p:nvSpPr>
            <p:spPr>
              <a:xfrm>
                <a:off x="1330200" y="1378080"/>
                <a:ext cx="85680" cy="95040"/>
              </a:xfrm>
              <a:prstGeom prst="diamond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779480" y="996840"/>
                <a:ext cx="22320" cy="255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218040" y="9360"/>
                <a:ext cx="79200" cy="93960"/>
              </a:xfrm>
              <a:prstGeom prst="diamond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569960" y="6734160"/>
                <a:ext cx="87480" cy="666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762280" y="460440"/>
                <a:ext cx="73080" cy="82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108000" y="289080"/>
                <a:ext cx="88920" cy="63360"/>
              </a:xfrm>
              <a:prstGeom prst="diamond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57360" y="123840"/>
                <a:ext cx="88920" cy="633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225440" y="44280"/>
                <a:ext cx="84240" cy="954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995400" y="6676920"/>
                <a:ext cx="85680" cy="669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259000" y="6781680"/>
                <a:ext cx="88920" cy="63720"/>
              </a:xfrm>
              <a:prstGeom prst="diamond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33200" y="6781680"/>
                <a:ext cx="88920" cy="63720"/>
              </a:xfrm>
              <a:prstGeom prst="diamond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2382840" y="6676920"/>
                <a:ext cx="87480" cy="669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" name=""/>
            <p:cNvGrpSpPr/>
            <p:nvPr/>
          </p:nvGrpSpPr>
          <p:grpSpPr>
            <a:xfrm>
              <a:off x="69840" y="0"/>
              <a:ext cx="2976480" cy="6845400"/>
              <a:chOff x="69840" y="0"/>
              <a:chExt cx="2976480" cy="6845400"/>
            </a:xfrm>
          </p:grpSpPr>
          <p:sp>
            <p:nvSpPr>
              <p:cNvPr id="15" name=""/>
              <p:cNvSpPr/>
              <p:nvPr/>
            </p:nvSpPr>
            <p:spPr>
              <a:xfrm>
                <a:off x="1725480" y="1600200"/>
                <a:ext cx="81000" cy="93600"/>
              </a:xfrm>
              <a:prstGeom prst="diamond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017720" y="1168560"/>
                <a:ext cx="83880" cy="950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2965320" y="307800"/>
                <a:ext cx="81000" cy="9396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036800" y="1623960"/>
                <a:ext cx="85680" cy="68400"/>
              </a:xfrm>
              <a:prstGeom prst="diamond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627120" y="6426360"/>
                <a:ext cx="85680" cy="680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463680" y="1695600"/>
                <a:ext cx="87120" cy="680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277920" y="1449360"/>
                <a:ext cx="21960" cy="6516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004760" y="246240"/>
                <a:ext cx="88920" cy="64800"/>
              </a:xfrm>
              <a:prstGeom prst="diamond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69920" y="673200"/>
                <a:ext cx="88920" cy="6516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60440" y="0"/>
                <a:ext cx="88920" cy="6516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2021040" y="120600"/>
                <a:ext cx="83880" cy="95400"/>
              </a:xfrm>
              <a:prstGeom prst="diamond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770120" y="596880"/>
                <a:ext cx="84240" cy="9540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252440" y="6635880"/>
                <a:ext cx="87480" cy="680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506600" y="6654960"/>
                <a:ext cx="87120" cy="680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452520" y="6777000"/>
                <a:ext cx="87120" cy="68400"/>
              </a:xfrm>
              <a:prstGeom prst="diamond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69840" y="3595680"/>
                <a:ext cx="49320" cy="6840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2641680" y="6635880"/>
                <a:ext cx="85680" cy="680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" name=""/>
            <p:cNvGrpSpPr/>
            <p:nvPr/>
          </p:nvGrpSpPr>
          <p:grpSpPr>
            <a:xfrm>
              <a:off x="44280" y="73080"/>
              <a:ext cx="2789280" cy="6772320"/>
              <a:chOff x="44280" y="73080"/>
              <a:chExt cx="2789280" cy="6772320"/>
            </a:xfrm>
          </p:grpSpPr>
          <p:sp>
            <p:nvSpPr>
              <p:cNvPr id="33" name=""/>
              <p:cNvSpPr/>
              <p:nvPr/>
            </p:nvSpPr>
            <p:spPr>
              <a:xfrm>
                <a:off x="1924200" y="1204920"/>
                <a:ext cx="85680" cy="68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2498760" y="969840"/>
                <a:ext cx="88920" cy="6696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965240" y="787320"/>
                <a:ext cx="34920" cy="3816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525680" y="1092240"/>
                <a:ext cx="83880" cy="9504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453960" y="2516040"/>
                <a:ext cx="82440" cy="9216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374840" y="174600"/>
                <a:ext cx="79200" cy="936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12880" y="1825560"/>
                <a:ext cx="83880" cy="6984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284040" y="387360"/>
                <a:ext cx="88920" cy="6516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704880" y="390600"/>
                <a:ext cx="38160" cy="2700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1644480" y="6321600"/>
                <a:ext cx="88920" cy="666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336600" y="142920"/>
                <a:ext cx="88920" cy="666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906480" y="73080"/>
                <a:ext cx="88920" cy="666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93800" y="1249200"/>
                <a:ext cx="87120" cy="6516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46120" y="1427040"/>
                <a:ext cx="88920" cy="6372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4000" y="627120"/>
                <a:ext cx="87120" cy="666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2155680" y="463680"/>
                <a:ext cx="34920" cy="3780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478240" y="311040"/>
                <a:ext cx="83880" cy="9540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95440" y="311040"/>
                <a:ext cx="8568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766880" y="349200"/>
                <a:ext cx="8424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49160" y="5969160"/>
                <a:ext cx="84240" cy="9504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089000" y="6711840"/>
                <a:ext cx="8568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360440" y="6750000"/>
                <a:ext cx="8424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4280" y="6754680"/>
                <a:ext cx="88920" cy="6696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19000" y="6673680"/>
                <a:ext cx="8424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690560" y="6734160"/>
                <a:ext cx="115920" cy="11124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2640" y="6750000"/>
                <a:ext cx="8568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898640" y="6556320"/>
                <a:ext cx="81000" cy="936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41280" y="6599160"/>
                <a:ext cx="114480" cy="936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478240" y="6711840"/>
                <a:ext cx="8388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749680" y="6750000"/>
                <a:ext cx="8388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06800" y="6673680"/>
                <a:ext cx="8568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5440" y="1368360"/>
                <a:ext cx="85680" cy="6984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139680" y="25560"/>
              <a:ext cx="2305080" cy="6791040"/>
              <a:chOff x="139680" y="25560"/>
              <a:chExt cx="2305080" cy="6791040"/>
            </a:xfrm>
          </p:grpSpPr>
          <p:sp>
            <p:nvSpPr>
              <p:cNvPr id="66" name=""/>
              <p:cNvSpPr/>
              <p:nvPr/>
            </p:nvSpPr>
            <p:spPr>
              <a:xfrm>
                <a:off x="787320" y="1492200"/>
                <a:ext cx="84240" cy="9540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152800" y="939960"/>
                <a:ext cx="83880" cy="9504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635040" y="2852640"/>
                <a:ext cx="81000" cy="93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22120" y="3059280"/>
                <a:ext cx="81000" cy="9360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39680" y="2046240"/>
                <a:ext cx="84240" cy="66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987560" y="317520"/>
                <a:ext cx="87480" cy="6660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19120" y="701640"/>
                <a:ext cx="87480" cy="6336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14440" y="249120"/>
                <a:ext cx="87120" cy="6516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57360" y="971640"/>
                <a:ext cx="88920" cy="6660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378080" y="615960"/>
                <a:ext cx="83880" cy="9540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343240" y="615960"/>
                <a:ext cx="83880" cy="9540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365120" y="6019920"/>
                <a:ext cx="81000" cy="9180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89040" y="6743880"/>
                <a:ext cx="79200" cy="7272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16080" y="5486400"/>
                <a:ext cx="80640" cy="9216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376360" y="25560"/>
                <a:ext cx="68400" cy="7596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47680" y="6334200"/>
                <a:ext cx="81000" cy="9216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111400" y="6496200"/>
                <a:ext cx="79200" cy="9180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857160" y="6591240"/>
                <a:ext cx="81000" cy="9216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133200" y="82440"/>
              <a:ext cx="2856240" cy="6762960"/>
              <a:chOff x="133200" y="82440"/>
              <a:chExt cx="2856240" cy="6762960"/>
            </a:xfrm>
          </p:grpSpPr>
          <p:grpSp>
            <p:nvGrpSpPr>
              <p:cNvPr id="85" name=""/>
              <p:cNvGrpSpPr/>
              <p:nvPr/>
            </p:nvGrpSpPr>
            <p:grpSpPr>
              <a:xfrm>
                <a:off x="141120" y="82440"/>
                <a:ext cx="2725920" cy="6697800"/>
                <a:chOff x="141120" y="82440"/>
                <a:chExt cx="2725920" cy="669780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565200" y="3606840"/>
                  <a:ext cx="81000" cy="93600"/>
                </a:xfrm>
                <a:prstGeom prst="diamond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458640" y="4427640"/>
                  <a:ext cx="86040" cy="66600"/>
                </a:xfrm>
                <a:prstGeom prst="diamond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849240" y="784080"/>
                  <a:ext cx="88920" cy="6516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141120" y="993600"/>
                  <a:ext cx="88920" cy="63720"/>
                </a:xfrm>
                <a:prstGeom prst="diamond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1174680" y="349200"/>
                  <a:ext cx="84240" cy="9540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2749680" y="82440"/>
                  <a:ext cx="83880" cy="95400"/>
                </a:xfrm>
                <a:prstGeom prst="diamond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1393920" y="6445080"/>
                  <a:ext cx="85680" cy="95400"/>
                </a:xfrm>
                <a:prstGeom prst="diamond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2101680" y="6713640"/>
                  <a:ext cx="86040" cy="66600"/>
                </a:xfrm>
                <a:prstGeom prst="diamond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149400" y="6642000"/>
                  <a:ext cx="52200" cy="104760"/>
                </a:xfrm>
                <a:prstGeom prst="diamond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2782800" y="6445080"/>
                  <a:ext cx="84240" cy="95400"/>
                </a:xfrm>
                <a:prstGeom prst="diamond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" name=""/>
              <p:cNvSpPr/>
              <p:nvPr/>
            </p:nvSpPr>
            <p:spPr>
              <a:xfrm>
                <a:off x="1158840" y="6311880"/>
                <a:ext cx="85680" cy="6840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06440" y="1149480"/>
                <a:ext cx="88920" cy="666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95360" y="536400"/>
                <a:ext cx="88920" cy="6516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512720" y="120600"/>
                <a:ext cx="51120" cy="572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428840" y="6692760"/>
                <a:ext cx="87120" cy="6840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995400" y="6751800"/>
                <a:ext cx="79200" cy="9360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63680" y="6678720"/>
                <a:ext cx="87120" cy="6804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60280" y="5935680"/>
                <a:ext cx="87480" cy="6840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33200" y="6492960"/>
                <a:ext cx="87480" cy="6804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901960" y="6777000"/>
                <a:ext cx="87480" cy="6840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382840" y="6751800"/>
                <a:ext cx="81000" cy="9360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54000" y="25560"/>
              <a:ext cx="2625840" cy="6781680"/>
              <a:chOff x="54000" y="25560"/>
              <a:chExt cx="2625840" cy="6781680"/>
            </a:xfrm>
          </p:grpSpPr>
          <p:sp>
            <p:nvSpPr>
              <p:cNvPr id="108" name=""/>
              <p:cNvSpPr/>
              <p:nvPr/>
            </p:nvSpPr>
            <p:spPr>
              <a:xfrm>
                <a:off x="2133720" y="1546200"/>
                <a:ext cx="73080" cy="824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30080" y="4192560"/>
                <a:ext cx="39960" cy="44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293920" y="326880"/>
                <a:ext cx="87480" cy="69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247760" y="1825560"/>
                <a:ext cx="87480" cy="68400"/>
              </a:xfrm>
              <a:prstGeom prst="diamond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079640" y="654120"/>
                <a:ext cx="88920" cy="66600"/>
              </a:xfrm>
              <a:prstGeom prst="diamond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201680" y="6702480"/>
                <a:ext cx="88920" cy="633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4000" y="61920"/>
                <a:ext cx="87120" cy="651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903240" y="406440"/>
                <a:ext cx="84240" cy="95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766880" y="25560"/>
                <a:ext cx="84240" cy="95040"/>
              </a:xfrm>
              <a:prstGeom prst="diamond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008000" y="6527880"/>
                <a:ext cx="55800" cy="666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30240" y="6735600"/>
                <a:ext cx="84240" cy="68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12840" y="6759720"/>
                <a:ext cx="74520" cy="475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06200" y="6264360"/>
                <a:ext cx="33480" cy="96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973160" y="6064200"/>
                <a:ext cx="22320" cy="73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590920" y="6702480"/>
                <a:ext cx="88920" cy="633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395440" y="6527880"/>
                <a:ext cx="57240" cy="666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246320" y="993600"/>
                <a:ext cx="68040" cy="702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Arial"/>
              </a:rPr>
              <a:t>Diseño de Interfase Hombre-Máquina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Sesion 11</a:t>
            </a:r>
            <a:br>
              <a:rPr sz="3200"/>
            </a:b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Herramientas de Exploración de la Información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Arial"/>
              </a:rPr>
              <a:t>Aplicaciones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Negocio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"/>
              </a:rPr>
              <a:t>Guías de orientación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"/>
              </a:rPr>
              <a:t>Curriculum y biografía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"/>
              </a:rPr>
              <a:t>Contrato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"/>
              </a:rPr>
              <a:t>Cartas, periódicos, revista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"/>
              </a:rPr>
              <a:t>Documentación y código de software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Arial"/>
              </a:rPr>
              <a:t>Aplicaciones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Enciclopedia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Glosario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Diccionario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Libros de referencia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Guías de viajes y restaurante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Revistas científica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Arial"/>
              </a:rPr>
              <a:t>Aplicaciones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Manuales de reparación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Planes de trabajo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Atlas geográfico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Recetas de cocina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Libros de aventura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Novelas de misterio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Arial"/>
              </a:rPr>
              <a:t>Reglas de oro del hipertexto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¿Cuándo tiene sentido?: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Mucha información organizada en muchos pedacito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Hay relación entre los fragmento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El usuario sólo necesita unos cuantos fragmentos en cualquier momento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Arial"/>
              </a:rPr>
              <a:t>Características de la IU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Elementos de Contenido: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"/>
              </a:rPr>
              <a:t>Nodo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"/>
              </a:rPr>
              <a:t>Liga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"/>
              </a:rPr>
              <a:t>Formato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"/>
              </a:rPr>
              <a:t>Resolución, tamaño y color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"/>
              </a:rPr>
              <a:t>Tamaño y administración de ventana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Arial"/>
              </a:rPr>
              <a:t>Características de la IU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Interacción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"/>
              </a:rPr>
              <a:t>Mecanismos de selección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"/>
              </a:rPr>
              <a:t>Tiempo de respuesta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"/>
              </a:rPr>
              <a:t>Panel de control para video/audio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"/>
              </a:rPr>
              <a:t>Capacidad de invocar programas externo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Arial"/>
              </a:rPr>
              <a:t>Características de la IU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Navegación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"/>
              </a:rPr>
              <a:t>Estructura del grafo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"/>
              </a:rPr>
              <a:t>Tablas múltiples de contenido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"/>
              </a:rPr>
              <a:t>Panorama gráfico o tabular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"/>
              </a:rPr>
              <a:t>Búsqueda por índice vs. palabra clave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"/>
              </a:rPr>
              <a:t>Indicadores de posición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Arial"/>
              </a:rPr>
              <a:t>Características de la IU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Registro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"/>
              </a:rPr>
              <a:t>Sitios favorito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"/>
              </a:rPr>
              <a:t>Historia de la navegación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"/>
              </a:rPr>
              <a:t>Capacidad de anotación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"/>
              </a:rPr>
              <a:t>Exportación de la información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"/>
              </a:rPr>
              <a:t>Guardar estatus y resultados de búsqueda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Arial"/>
              </a:rPr>
              <a:t>Metodología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Conocer usuarios/tarea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La parte con significado al principio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Equipo multidisciplinario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Chunking - fragmentar lo suficient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Mostrar las relacione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Arial"/>
              </a:rPr>
              <a:t>Metodología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Consistencia en los nombre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Lista maestra de referencia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Asegurar la facilidad para recorrerlo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Diseñar cada pantalla con cuidado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Baja carga cognitiva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Arial"/>
              </a:rPr>
              <a:t>Objetivos de la sesión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Explicar la necesidad de herramientas para manejar grandes volúmenes de información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Ver cómo una buena interfase es requerida para dichas herramienta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Analizar las principales opcione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Arial"/>
              </a:rPr>
              <a:t>Introducción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Estrategias: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Glosario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Top-down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Menú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Búsqueda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Arial"/>
              </a:rPr>
              <a:t>Conversión de información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Tendencia: La gran cantidad de información ya existente tendrá que ponerse al alcance de los nuevos medios, y organizarse en forma acord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Arial"/>
              </a:rPr>
              <a:t>Multimedia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Gràfico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Animación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Sonido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Video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Arial"/>
              </a:rPr>
              <a:t>Consulta gráfica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Expresione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Reporteadore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Consultas dinámica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Mapas de árbo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Arial"/>
              </a:rPr>
              <a:t>Organización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Documento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Colecciones o conjunto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Ìndice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Diccionario de Sinónimo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Tabla de contenido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Arial"/>
              </a:rPr>
              <a:t>Búsqueda de Texto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Stemming: por lexema, soporta plural, conjugaciones, etc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Soundex: por problemas de ortografía y homófono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Proximidad de palabra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Combinaciones lógicas (Y, O, NO)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Arial"/>
              </a:rPr>
              <a:t>Búsqueda de Texto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Sinónimos en línea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Índice de relevancia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Similares a ejemplo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Índices de léxico limitado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Palabras clav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Arial"/>
              </a:rPr>
              <a:t>Consulta a una BD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Campos formateados: SQ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Consulta por ejemplo (Query by Example = QBE)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Llenado de formas QB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Arial"/>
              </a:rPr>
              <a:t>Búsquedas flexibles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Arcoiris: incluir atributos de texto (negrilla, en título, en nota)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Expansión/contracción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Búsqueda de sonido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Búsqueda de dibujo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Librerías de foto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Arial"/>
              </a:rPr>
              <a:t>Hipertexto/hipermedia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Libros electrónico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Hypercard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Mosaic -&gt; Web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00"/>
                </a:solidFill>
                <a:latin typeface="Arial"/>
              </a:rPr>
              <a:t>Aplicaciones candidatas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Negocio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"/>
              </a:rPr>
              <a:t>Catálogos de producto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"/>
              </a:rPr>
              <a:t>Anuncio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"/>
              </a:rPr>
              <a:t>Organigrama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"/>
              </a:rPr>
              <a:t>Manuales de políticas y procedimiento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"/>
              </a:rPr>
              <a:t>Reportes anuale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4T16:55:32Z</dcterms:created>
  <dc:creator>BRUNO GUARDIA ROBLES</dc:creator>
  <dc:description/>
  <dc:language>en-US</dc:language>
  <cp:lastModifiedBy>carlos</cp:lastModifiedBy>
  <cp:lastPrinted>2009-04-22T19:24:48Z</cp:lastPrinted>
  <dcterms:modified xsi:type="dcterms:W3CDTF">1999-04-09T08:09:02Z</dcterms:modified>
  <cp:revision>8</cp:revision>
  <dc:subject/>
  <dc:title>DIHM-11</dc:title>
</cp:coreProperties>
</file>