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4280" y="0"/>
            <a:ext cx="3252960" cy="6845400"/>
            <a:chOff x="44280" y="0"/>
            <a:chExt cx="325296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108000" y="9360"/>
              <a:ext cx="3189240" cy="6836040"/>
              <a:chOff x="108000" y="9360"/>
              <a:chExt cx="3189240" cy="6836040"/>
            </a:xfrm>
          </p:grpSpPr>
          <p:sp>
            <p:nvSpPr>
              <p:cNvPr id="2" name=""/>
              <p:cNvSpPr/>
              <p:nvPr/>
            </p:nvSpPr>
            <p:spPr>
              <a:xfrm>
                <a:off x="1330200" y="1378080"/>
                <a:ext cx="85680" cy="9504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779480" y="996840"/>
                <a:ext cx="22320" cy="255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218040" y="9360"/>
                <a:ext cx="79200" cy="9396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69960" y="673416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762280" y="460440"/>
                <a:ext cx="73080" cy="82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08000" y="289080"/>
                <a:ext cx="88920" cy="6336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57360" y="123840"/>
                <a:ext cx="88920" cy="6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5440" y="44280"/>
                <a:ext cx="84240" cy="9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95400" y="6676920"/>
                <a:ext cx="856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259000" y="6781680"/>
                <a:ext cx="8892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33200" y="6781680"/>
                <a:ext cx="88920" cy="6372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382840" y="6676920"/>
                <a:ext cx="87480" cy="669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" name=""/>
            <p:cNvGrpSpPr/>
            <p:nvPr/>
          </p:nvGrpSpPr>
          <p:grpSpPr>
            <a:xfrm>
              <a:off x="69840" y="0"/>
              <a:ext cx="2976480" cy="6845400"/>
              <a:chOff x="69840" y="0"/>
              <a:chExt cx="2976480" cy="6845400"/>
            </a:xfrm>
          </p:grpSpPr>
          <p:sp>
            <p:nvSpPr>
              <p:cNvPr id="15" name=""/>
              <p:cNvSpPr/>
              <p:nvPr/>
            </p:nvSpPr>
            <p:spPr>
              <a:xfrm>
                <a:off x="1725480" y="1600200"/>
                <a:ext cx="81000" cy="936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017720" y="1168560"/>
                <a:ext cx="83880" cy="95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965320" y="307800"/>
                <a:ext cx="81000" cy="939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36800" y="1623960"/>
                <a:ext cx="85680" cy="68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27120" y="642636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63680" y="1695600"/>
                <a:ext cx="8712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77920" y="1449360"/>
                <a:ext cx="2196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04760" y="246240"/>
                <a:ext cx="88920" cy="648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69920" y="67320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60440" y="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021040" y="120600"/>
                <a:ext cx="83880" cy="95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770120" y="596880"/>
                <a:ext cx="84240" cy="95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252440" y="6635880"/>
                <a:ext cx="874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506600" y="6654960"/>
                <a:ext cx="8712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52520" y="6777000"/>
                <a:ext cx="87120" cy="6840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69840" y="3595680"/>
                <a:ext cx="4932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641680" y="6635880"/>
                <a:ext cx="8568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44280" y="73080"/>
              <a:ext cx="2789280" cy="6772320"/>
              <a:chOff x="44280" y="73080"/>
              <a:chExt cx="2789280" cy="6772320"/>
            </a:xfrm>
          </p:grpSpPr>
          <p:sp>
            <p:nvSpPr>
              <p:cNvPr id="33" name=""/>
              <p:cNvSpPr/>
              <p:nvPr/>
            </p:nvSpPr>
            <p:spPr>
              <a:xfrm>
                <a:off x="1924200" y="1204920"/>
                <a:ext cx="85680" cy="68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98760" y="969840"/>
                <a:ext cx="88920" cy="669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965240" y="787320"/>
                <a:ext cx="34920" cy="38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525680" y="1092240"/>
                <a:ext cx="8388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53960" y="2516040"/>
                <a:ext cx="82440" cy="921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374840" y="174600"/>
                <a:ext cx="7920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12880" y="1825560"/>
                <a:ext cx="83880" cy="698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284040" y="387360"/>
                <a:ext cx="88920" cy="65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04880" y="390600"/>
                <a:ext cx="38160" cy="270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644480" y="6321600"/>
                <a:ext cx="889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336600" y="142920"/>
                <a:ext cx="889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906480" y="73080"/>
                <a:ext cx="889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93800" y="1249200"/>
                <a:ext cx="87120" cy="651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46120" y="1427040"/>
                <a:ext cx="88920" cy="637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4000" y="627120"/>
                <a:ext cx="87120" cy="66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55680" y="463680"/>
                <a:ext cx="34920" cy="378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478240" y="311040"/>
                <a:ext cx="83880" cy="954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5440" y="31104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66880" y="34920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49160" y="5969160"/>
                <a:ext cx="8424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89000" y="671184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360440" y="675000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4280" y="6754680"/>
                <a:ext cx="88920" cy="669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19000" y="6673680"/>
                <a:ext cx="8424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690560" y="6734160"/>
                <a:ext cx="115920" cy="111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2640" y="675000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98640" y="6556320"/>
                <a:ext cx="8100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41280" y="6599160"/>
                <a:ext cx="11448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478240" y="671184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49680" y="6750000"/>
                <a:ext cx="838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06800" y="6673680"/>
                <a:ext cx="85680" cy="954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440" y="1368360"/>
                <a:ext cx="85680" cy="698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39680" y="25560"/>
              <a:ext cx="2305080" cy="6791040"/>
              <a:chOff x="139680" y="25560"/>
              <a:chExt cx="2305080" cy="6791040"/>
            </a:xfrm>
          </p:grpSpPr>
          <p:sp>
            <p:nvSpPr>
              <p:cNvPr id="66" name=""/>
              <p:cNvSpPr/>
              <p:nvPr/>
            </p:nvSpPr>
            <p:spPr>
              <a:xfrm>
                <a:off x="787320" y="1492200"/>
                <a:ext cx="84240" cy="954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52800" y="939960"/>
                <a:ext cx="83880" cy="950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35040" y="2852640"/>
                <a:ext cx="81000" cy="93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2120" y="3059280"/>
                <a:ext cx="81000" cy="936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9680" y="2046240"/>
                <a:ext cx="84240" cy="66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87560" y="317520"/>
                <a:ext cx="87480" cy="666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9120" y="701640"/>
                <a:ext cx="87480" cy="633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14440" y="249120"/>
                <a:ext cx="87120" cy="65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7360" y="971640"/>
                <a:ext cx="88920" cy="666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78080" y="615960"/>
                <a:ext cx="83880" cy="954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43240" y="615960"/>
                <a:ext cx="83880" cy="954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65120" y="6019920"/>
                <a:ext cx="8100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89040" y="6743880"/>
                <a:ext cx="79200" cy="7272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6080" y="5486400"/>
                <a:ext cx="8064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76360" y="25560"/>
                <a:ext cx="68400" cy="759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7680" y="633420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11400" y="6496200"/>
                <a:ext cx="7920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57160" y="6591240"/>
                <a:ext cx="81000" cy="921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33200" y="82440"/>
              <a:ext cx="2856240" cy="6762960"/>
              <a:chOff x="133200" y="82440"/>
              <a:chExt cx="2856240" cy="676296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141120" y="82440"/>
                <a:ext cx="2725920" cy="6697800"/>
                <a:chOff x="141120" y="82440"/>
                <a:chExt cx="2725920" cy="66978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65200" y="3606840"/>
                  <a:ext cx="81000" cy="93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58640" y="4427640"/>
                  <a:ext cx="86040" cy="66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49240" y="784080"/>
                  <a:ext cx="88920" cy="65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41120" y="993600"/>
                  <a:ext cx="88920" cy="6372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174680" y="349200"/>
                  <a:ext cx="84240" cy="954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749680" y="82440"/>
                  <a:ext cx="83880" cy="954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393920" y="6445080"/>
                  <a:ext cx="85680" cy="954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101680" y="6713640"/>
                  <a:ext cx="86040" cy="66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49400" y="6642000"/>
                  <a:ext cx="52200" cy="10476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782800" y="6445080"/>
                  <a:ext cx="84240" cy="954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1158840" y="6311880"/>
                <a:ext cx="856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6440" y="1149480"/>
                <a:ext cx="88920" cy="66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360" y="536400"/>
                <a:ext cx="88920" cy="6516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12720" y="120600"/>
                <a:ext cx="51120" cy="57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28840" y="6692760"/>
                <a:ext cx="8712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95400" y="6751800"/>
                <a:ext cx="792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3680" y="667872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0280" y="5935680"/>
                <a:ext cx="874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3200" y="6492960"/>
                <a:ext cx="8748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01960" y="6777000"/>
                <a:ext cx="87480" cy="684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382840" y="6751800"/>
                <a:ext cx="81000" cy="936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4000" y="25560"/>
              <a:ext cx="2625840" cy="6781680"/>
              <a:chOff x="54000" y="25560"/>
              <a:chExt cx="2625840" cy="6781680"/>
            </a:xfrm>
          </p:grpSpPr>
          <p:sp>
            <p:nvSpPr>
              <p:cNvPr id="108" name=""/>
              <p:cNvSpPr/>
              <p:nvPr/>
            </p:nvSpPr>
            <p:spPr>
              <a:xfrm>
                <a:off x="2133720" y="1546200"/>
                <a:ext cx="73080" cy="82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30080" y="4192560"/>
                <a:ext cx="39960" cy="44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93920" y="326880"/>
                <a:ext cx="8748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247760" y="1825560"/>
                <a:ext cx="87480" cy="6840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79640" y="654120"/>
                <a:ext cx="88920" cy="6660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0168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000" y="61920"/>
                <a:ext cx="87120" cy="65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03240" y="406440"/>
                <a:ext cx="84240" cy="95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766880" y="25560"/>
                <a:ext cx="84240" cy="9504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08000" y="6527880"/>
                <a:ext cx="5580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30240" y="6735600"/>
                <a:ext cx="84240" cy="68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2840" y="6759720"/>
                <a:ext cx="74520" cy="47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6200" y="6264360"/>
                <a:ext cx="33480" cy="96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73160" y="6064200"/>
                <a:ext cx="22320" cy="73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9092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95440" y="6527880"/>
                <a:ext cx="572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46320" y="993600"/>
                <a:ext cx="68040" cy="702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4000"/>
              <a:buFont typeface="Monotype Sorts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4000"/>
              <a:buFont typeface="Monotype Sorts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4000"/>
              <a:buFont typeface="Monotype Sorts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4000"/>
              <a:buFont typeface="Monotype Sorts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Arial"/>
              </a:rPr>
              <a:t>Diseño de Interfases Hombre-Máquina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Diseño Iterativo, Pruebas y Evaluació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Arial"/>
              </a:rPr>
              <a:t>Capacitación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Guías para tutoriales y ayuda en líne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Material de capacitación y referenci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Arial"/>
              </a:rPr>
              <a:t>Guías para documentos de guías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Registrar todas las decisiones para todos los involucrad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Promover consistencia y cerradur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Facilitar la automatizació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Filosofía detrá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Ejemplos de aplicació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Arial"/>
              </a:rPr>
              <a:t>Laboratorios de usabilidad y diseño iterativo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Pruebas con sujetos representativ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Muestras aleator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Tratamiento respetuoso, decisión informada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No se evalúa al sujeto, sino la interfaz - debe saberlo el sujeto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Estatutos (firmados) de aceptació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Refinación iterativa: metodologías en espira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Arial"/>
              </a:rPr>
              <a:t>Pruebas de aceptación: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Definir criterios medibl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Aceptación por criterios como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Tiempo para aprendizaj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Tiempo en la ejecución de la tarea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Tasa de erro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Satisfacción subjetiva - encuesta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Retención a largo plaz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Arial"/>
              </a:rPr>
              <a:t>Pruebas de aceptación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Metodologías (MSF) proponen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Durante la Visión, el equipo de pruebas define metas medibles y criterios de aceptació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ffff"/>
              </a:buClr>
              <a:buSzPct val="64000"/>
              <a:buFont typeface="Monotype Sorts" charset="2"/>
              <a:buChar char="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Arial"/>
              </a:rPr>
              <a:t>Se entrenarán 30 usuarios, en un período de 45 minutos. Después se le darán 15 minutos para ejecutar las pruebas anexas. La tasa de éxito debe ser arriba del 80% y el número promedio de errores menor a 3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Arial"/>
              </a:rPr>
              <a:t>Evaluación durante el uso activo 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Encuet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Entrevistas y discusiones de grup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En línea o por teléfon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Reporte de fallas en líne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BBS/Interne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Información periódica y conferen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Arial"/>
              </a:rPr>
              <a:t>Evaluaciones cuantitativas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Experimentación sicológica controlad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Recolección continua de datos sobre el desempeño de los usuari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Arial"/>
              </a:rPr>
              <a:t>Ciclo de desarrollo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Recolección de informació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Requerimientos y semántica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Diseño de sintaxis y servicios de soport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Dispositivos físico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Desarrollo del softwar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Integrar sistema y distribuir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Culturizar la comunidad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Plan de evolució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Arial"/>
              </a:rPr>
              <a:t>Objetivos de la sesión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Revisar las guías para la creación de material de referencia efectivo para hacer productivos los sistem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Analizar los factores que se afectan mediante este material, y permiten optimizar el desempeño del usuario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Arial"/>
              </a:rPr>
              <a:t>Introducción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Estilo “egocéntrico” tradiciona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Problemas en el diseñ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Tendencia: Arquitectos de interfas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Arial"/>
              </a:rPr>
              <a:t>Diseño participativo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El diseño es un proceso, no un estad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No es jerárquic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Implica transformación continua; no es ni top-down ni bottom-up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Implica el descubrimiento de nuevas met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Es dinámic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Arial"/>
              </a:rPr>
              <a:t>Pilares del diseño: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Documentos con guías generales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SAA - CUA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Sistemas para la administración de la interfaz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Laboratorios de usabilidad y pruebas iterativ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Arial"/>
              </a:rPr>
              <a:t>Documentos de guías: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Cada proyecto debe ajustarlas a sus necesidades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Diseño de pantall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Entrada y salid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Secuencias de acció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Capacitació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Arial"/>
              </a:rPr>
              <a:t>Diseño de pantallas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Menúes, llenado de formas y formato de diálogo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Redacción y terminología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Formatos de entrada y despliegue para lista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Fuentes, iconos, anchos de línea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Uso del color, resalte, parpadeo o video invers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Arial"/>
              </a:rPr>
              <a:t>Entrada y salida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Uso del teclado, cursor, dispositivos apuntador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Sonido, entrada por touchscreen y otros dispositivos especial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Diseño de ventanas múltiples y panel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Tiempo de respuesta y tasa de despliegu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Arial"/>
              </a:rPr>
              <a:t>Secuencias de acción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Acciones de manipulación direct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Sintaxis, semántica y secuencias de comand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Teclas de función y macro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Arial"/>
              </a:rPr>
              <a:t>Procedimientos de recuperació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2T18:03:30Z</dcterms:created>
  <dc:creator>Bruno Guardia</dc:creator>
  <dc:description/>
  <dc:language>en-US</dc:language>
  <cp:lastModifiedBy>carlos</cp:lastModifiedBy>
  <dcterms:modified xsi:type="dcterms:W3CDTF">1999-04-09T10:13:14Z</dcterms:modified>
  <cp:revision>6</cp:revision>
  <dc:subject/>
  <dc:title>Diseño de Interfase Hombre-Máquina</dc:title>
</cp:coreProperties>
</file>