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5869080"/>
            <a:ext cx="8840880" cy="820800"/>
            <a:chOff x="152280" y="5869080"/>
            <a:chExt cx="8840880" cy="820800"/>
          </a:xfrm>
        </p:grpSpPr>
        <p:grpSp>
          <p:nvGrpSpPr>
            <p:cNvPr id="1" name=""/>
            <p:cNvGrpSpPr/>
            <p:nvPr/>
          </p:nvGrpSpPr>
          <p:grpSpPr>
            <a:xfrm>
              <a:off x="152280" y="6033960"/>
              <a:ext cx="8840880" cy="532080"/>
              <a:chOff x="152280" y="6033960"/>
              <a:chExt cx="8840880" cy="532080"/>
            </a:xfrm>
          </p:grpSpPr>
          <p:sp>
            <p:nvSpPr>
              <p:cNvPr id="2" name=""/>
              <p:cNvSpPr/>
              <p:nvPr/>
            </p:nvSpPr>
            <p:spPr>
              <a:xfrm>
                <a:off x="152280" y="6039000"/>
                <a:ext cx="8834400" cy="52380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50000">
                    <a:srgbClr val="ffffff"/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  <a:effectLst>
                <a:outerShdw dist="53966" dir="189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52280" y="6033960"/>
                <a:ext cx="8840880" cy="532080"/>
                <a:chOff x="152280" y="6033960"/>
                <a:chExt cx="8840880" cy="53208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152280" y="6033960"/>
                  <a:ext cx="8840880" cy="158760"/>
                </a:xfrm>
                <a:custGeom>
                  <a:avLst/>
                  <a:gdLst/>
                  <a:ahLst/>
                  <a:rect l="l" t="t" r="r" b="b"/>
                  <a:pathLst>
                    <a:path w="5569" h="100">
                      <a:moveTo>
                        <a:pt x="0" y="99"/>
                      </a:moveTo>
                      <a:lnTo>
                        <a:pt x="0" y="0"/>
                      </a:lnTo>
                      <a:lnTo>
                        <a:pt x="5568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52280" y="6215040"/>
                  <a:ext cx="8840880" cy="158760"/>
                </a:xfrm>
                <a:custGeom>
                  <a:avLst/>
                  <a:gdLst/>
                  <a:ahLst/>
                  <a:rect l="l" t="t" r="r" b="b"/>
                  <a:pathLst>
                    <a:path w="5569" h="100">
                      <a:moveTo>
                        <a:pt x="0" y="99"/>
                      </a:moveTo>
                      <a:lnTo>
                        <a:pt x="0" y="0"/>
                      </a:lnTo>
                      <a:lnTo>
                        <a:pt x="5568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152280" y="6396120"/>
                  <a:ext cx="8840880" cy="158760"/>
                </a:xfrm>
                <a:custGeom>
                  <a:avLst/>
                  <a:gdLst/>
                  <a:ahLst/>
                  <a:rect l="l" t="t" r="r" b="b"/>
                  <a:pathLst>
                    <a:path w="5569" h="100">
                      <a:moveTo>
                        <a:pt x="0" y="99"/>
                      </a:moveTo>
                      <a:lnTo>
                        <a:pt x="0" y="0"/>
                      </a:lnTo>
                      <a:lnTo>
                        <a:pt x="5568" y="0"/>
                      </a:lnTo>
                    </a:path>
                  </a:pathLst>
                </a:custGeom>
                <a:noFill/>
                <a:ln cap="rnd" w="12600">
                  <a:solidFill>
                    <a:srgbClr val="e8e8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152280" y="6045120"/>
                  <a:ext cx="8840880" cy="158760"/>
                </a:xfrm>
                <a:custGeom>
                  <a:avLst/>
                  <a:gdLst/>
                  <a:ahLst/>
                  <a:rect l="l" t="t" r="r" b="b"/>
                  <a:pathLst>
                    <a:path w="5569" h="100">
                      <a:moveTo>
                        <a:pt x="5568" y="0"/>
                      </a:moveTo>
                      <a:lnTo>
                        <a:pt x="5568" y="99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52280" y="6226200"/>
                  <a:ext cx="8840880" cy="158760"/>
                </a:xfrm>
                <a:custGeom>
                  <a:avLst/>
                  <a:gdLst/>
                  <a:ahLst/>
                  <a:rect l="l" t="t" r="r" b="b"/>
                  <a:pathLst>
                    <a:path w="5569" h="100">
                      <a:moveTo>
                        <a:pt x="5568" y="0"/>
                      </a:moveTo>
                      <a:lnTo>
                        <a:pt x="5568" y="99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52280" y="6407280"/>
                  <a:ext cx="8840880" cy="158760"/>
                </a:xfrm>
                <a:custGeom>
                  <a:avLst/>
                  <a:gdLst/>
                  <a:ahLst/>
                  <a:rect l="l" t="t" r="r" b="b"/>
                  <a:pathLst>
                    <a:path w="5569" h="100">
                      <a:moveTo>
                        <a:pt x="5568" y="0"/>
                      </a:moveTo>
                      <a:lnTo>
                        <a:pt x="5568" y="99"/>
                      </a:lnTo>
                      <a:lnTo>
                        <a:pt x="0" y="99"/>
                      </a:lnTo>
                    </a:path>
                  </a:pathLst>
                </a:custGeom>
                <a:noFill/>
                <a:ln cap="rnd"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7867800" y="5869080"/>
              <a:ext cx="1081080" cy="820800"/>
              <a:chOff x="7867800" y="5869080"/>
              <a:chExt cx="1081080" cy="820800"/>
            </a:xfrm>
          </p:grpSpPr>
          <p:sp>
            <p:nvSpPr>
              <p:cNvPr id="11" name=""/>
              <p:cNvSpPr/>
              <p:nvPr/>
            </p:nvSpPr>
            <p:spPr>
              <a:xfrm>
                <a:off x="8096400" y="5869080"/>
                <a:ext cx="622080" cy="82080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50000">
                    <a:srgbClr val="ffffff"/>
                  </a:gs>
                  <a:gs pos="100000">
                    <a:srgbClr val="cbcbcb"/>
                  </a:gs>
                </a:gsLst>
                <a:lin ang="5400000"/>
              </a:gradFill>
              <a:ln w="12600">
                <a:solidFill>
                  <a:srgbClr val="dadada"/>
                </a:solidFill>
                <a:miter/>
              </a:ln>
              <a:effectLst>
                <a:outerShdw dist="28496" dir="17774481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867800" y="5961240"/>
                <a:ext cx="1081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Interfac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Hombre-Máquina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Book Antiqua"/>
              </a:rPr>
              <a:t>Metas medible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empo para aprend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elocidad y desempeño obtenid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asa de erro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tención a través del tiemp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tisfacción subjetiv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Factores humano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stemas críticos para la vid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o industrial y comerci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horro económi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o casa, oficina y entretenimient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horro en tiempo o mayor satisfacció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stemas particular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ploratori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iv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operativ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Flexibilidad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juste a la diversidad human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pacidades físicas y lugares de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rabaj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pacidades cognitivas y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erceptiv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ferencias de personal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versidad cultur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ternacionalizació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suarios con discapacidad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Procesos centrales humano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moria a corto plaz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moria a largo plaz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rendizaj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solución de problem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Procesos centrales humano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ma de decision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tención y ajus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úsqued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ercepción del tiemp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Factores que afectan el desempeño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igilancia constan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atiga y falta de sueñ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rga ment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nocimiento de los resultad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notonía y aburrimient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Factores que afectan el desempeño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nsión, ansiedad y mied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lemas sensoria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islamient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rogas/alcoh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itmo cardiac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Políticas del Curso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sentación del Profeso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bjetivos del Curs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ecánica de la Cla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echas de exámen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sciplin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sesorí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Definicione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Interface. Palabra ingles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Interfaz (pl. interfaces)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Book Antiqua"/>
              </a:rPr>
              <a:t>Real Academia: Zona de comunicación o acción de un sistema sobre otro. Def. Informática: Conexión física y funcional entre dos aparatos o sistemas independient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Interfase: </a:t>
            </a:r>
            <a:r>
              <a:rPr b="0" lang="es-ES_tradnl" sz="2400" spc="-1" strike="noStrike">
                <a:solidFill>
                  <a:srgbClr val="ffffff"/>
                </a:solidFill>
                <a:latin typeface="Book Antiqua"/>
              </a:rPr>
              <a:t>Separación entre dos fas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Evaluación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onderació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areas, Proyectos y Exámen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cursos a usa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s del Curs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Bibliografía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Texto: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Schneidermann, Ben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“Designing the User Interface: Strategies for Effective Human-Computer Interaction”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Addison-Wesley, 1992, 2nd. E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Bibliografía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Referencia: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Thimbleby, Harold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“User Interface Design”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ACM Press, 199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Foley, James y van Dam, Andries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“Computer Graphics: Principles and Practice”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Addison Wesle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Motivacione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roductiv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Manejo de la complej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Confiabil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andarización y contro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Segur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Beneficio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ntretenimient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ar mayor poder al usuari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uevas capacida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pacidad de hacer varias cosas a la ve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legar tarea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rida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sarroll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álcul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Meta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Conseguir el desempeño requerid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Minimizar personal, capacidad y entrenamient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Conseguir confiabilidad requerid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En la combinación hombre-máquin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romover estandarizació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1T17:32:06Z</dcterms:created>
  <dc:creator>BRUNO GUARDIA ROBLES</dc:creator>
  <dc:description/>
  <dc:language>en-US</dc:language>
  <cp:lastModifiedBy>carlos</cp:lastModifiedBy>
  <cp:lastPrinted>2009-04-22T19:24:48Z</cp:lastPrinted>
  <dcterms:modified xsi:type="dcterms:W3CDTF">1999-02-26T12:19:42Z</dcterms:modified>
  <cp:revision>5</cp:revision>
  <dc:subject/>
  <dc:title>DiseÒo de Interfase Hombre-M·quina</dc:title>
</cp:coreProperties>
</file>