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2960" cy="6845400"/>
            <a:chOff x="44280" y="0"/>
            <a:chExt cx="325296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240" cy="6836040"/>
              <a:chOff x="108000" y="9360"/>
              <a:chExt cx="318924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5680" cy="9504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200" cy="939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8920" cy="633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400"/>
              <a:chOff x="69840" y="0"/>
              <a:chExt cx="2976480" cy="684540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000" cy="936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3880" cy="95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9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568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196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8920" cy="648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3880" cy="95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12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89280" cy="6772320"/>
              <a:chOff x="44280" y="73080"/>
              <a:chExt cx="2789280" cy="677232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5680" cy="68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9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38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440" cy="92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2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38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120" cy="65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8920" cy="637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1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78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388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24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8920" cy="669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5920" cy="111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0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48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56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080" cy="6791040"/>
              <a:chOff x="139680" y="25560"/>
              <a:chExt cx="2305080" cy="679104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24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3880" cy="950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000" cy="93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48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120" cy="65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892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0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064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400" cy="759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2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240" cy="6762960"/>
              <a:chOff x="133200" y="82440"/>
              <a:chExt cx="2856240" cy="67629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5920" cy="6697800"/>
                <a:chOff x="141120" y="82440"/>
                <a:chExt cx="2725920" cy="66978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000" cy="93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8920" cy="6372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38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56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200" cy="10476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24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56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8920" cy="6516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112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12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2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48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0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960" cy="44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480" cy="684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8920" cy="666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12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240" cy="9504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80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040" cy="70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Diseño de Interfase Hombre-Máquin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Sesión 9:</a:t>
            </a:r>
            <a:br>
              <a:rPr sz="3200"/>
            </a:b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strategias de ventanas múltipl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Técnicas de coordinación de ventanas.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Wizards: secuen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Fram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Árboles de contenid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encil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Ventana sincronizad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ablero de instrument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Técnicas de coordinación de ventanas.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anning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humbnail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op-up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xploración en 2D/3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pertura y cierre automáticos de dependen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Guardar el estado de las ventan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Objetivos de la sesió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Revisar la aplicación de múltiples ventanas en el diseño de interfases modern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Problem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onsultar múltiples fuentes rápidamente, sin distracció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Metáfora del escritorio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Usada por la mayoría de los GUI modern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XWindow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Window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Evolución de las ventana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iling, non-overlapping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Ovelapping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Icónic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Diseño individual: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Bordes/Marc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Barras de desplazamient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Acciones sobre las ventana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bri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ove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amañ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erra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ctivar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Soluciones al reto: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últiples monitores - ej. bolsa de valores, aeropuer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Rápido cambio de pantall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antalla dividida - paneles limitados - Mosaic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osaico variable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Soluciones al reto: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ilas/cascad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Zoom/Panning automático (Pantalla completa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aximizar/minimizar controlado por el usuari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Overlap arbitrario - sobreposición libr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1T13:17:36Z</dcterms:created>
  <dc:creator>BRUNO GUARDIA ROBLES</dc:creator>
  <dc:description/>
  <dc:language>en-US</dc:language>
  <cp:lastModifiedBy>carlos</cp:lastModifiedBy>
  <cp:lastPrinted>2009-04-22T19:24:48Z</cp:lastPrinted>
  <dcterms:modified xsi:type="dcterms:W3CDTF">1999-04-09T08:06:17Z</dcterms:modified>
  <cp:revision>4</cp:revision>
  <dc:subject/>
  <dc:title>DIHM-9</dc:title>
</cp:coreProperties>
</file>