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eño de Interfase Hombre-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sion 4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nguajes de coman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ción del lengu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a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rdenamiento consistente de los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ímbolos contra palabras c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ructura jerárquica y congruencia/simet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, congruencia y facilidad de mem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elección de nombres y abrevi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l vs.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rategias de abrevi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ías para el uso de abreviatu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strategias de abrevi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uncado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iminación de vo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y última le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letra de cada palabra en una f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reviaturas estandar en otros contex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n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Guías para el uso de abreviatur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a regla sencilla y primaria para la mayoría de los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a sola regla secundaria para casos de confli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rcar las abreviaturas generadas por la regla secund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nimizar el uso de la segunda reg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Guías para el uso de abreviatur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miliarizar a los usuarios con las re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uncar - fácil de comprender, fácil de producir confli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ferir abreviaturas de longitud f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eñadas para no incluir suf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usarlas en la salida de la computadora, leída por el usu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núes de coman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nguaje na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acción con el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ultas en lenguaje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sar las guías para diseñar lenguajes de coman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ocer cuándo es útil un lengu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tas básicas del diseño de lengua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ev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cilidad en la lectura y escri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pidez para aprend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icidad para reducir los err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cilidad de retención a través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tas de Alto ni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respondencia entre la realidad y la n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veniencia en la manipulación del lenguaje, acorde a las tareas del usu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tibilidad con las notacion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tas de Alto ni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ilidad para adaptarse a usuarios novatos o exper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resividad para la crea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ractivo 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imitantes en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acidad humana para registrar la n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respondencia entre el medio de escritura y le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veniencia para vocaliz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asos en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onocer la funcionalidad d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rategia de organización de los coman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ructuración del lengu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ción de nombres y abrevi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núes de coman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nguaje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onocer la funcionalidad del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exce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son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cilidad de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strategia de organización de los coman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sta simple de coman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andos +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tiquetas de arg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andos + opciones + arg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erárqu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NO GUARDIA ROBLES</dc:creator>
  <dc:description/>
  <dc:language>en-US</dc:language>
  <cp:lastModifiedBy>BRUNO GUARDIA ROBLES</cp:lastModifiedBy>
  <cp:revision>0</cp:revision>
  <dc:subject/>
  <dc:title>DIHM-4</dc:title>
</cp:coreProperties>
</file>