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74008D-CA98-4526-991A-1EE41026C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3320" cy="6845760"/>
            <a:chOff x="44280" y="0"/>
            <a:chExt cx="3253320" cy="684576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600" cy="6836040"/>
              <a:chOff x="108000" y="9360"/>
              <a:chExt cx="318960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760"/>
              <a:chOff x="69840" y="0"/>
              <a:chExt cx="2976480" cy="684576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6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23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90000" cy="6772680"/>
              <a:chOff x="44280" y="73080"/>
              <a:chExt cx="2790000" cy="677268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6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800" cy="92520"/>
              </a:xfrm>
              <a:custGeom>
                <a:avLst/>
                <a:gdLst/>
                <a:ahLst/>
                <a:rect l="0" t="0" r="r" b="b"/>
                <a:pathLst>
                  <a:path w="230" h="257">
                    <a:moveTo>
                      <a:pt x="114" y="257"/>
                    </a:moveTo>
                    <a:lnTo>
                      <a:pt x="230" y="128"/>
                    </a:lnTo>
                    <a:lnTo>
                      <a:pt x="114" y="0"/>
                    </a:lnTo>
                    <a:lnTo>
                      <a:pt x="0" y="128"/>
                    </a:lnTo>
                    <a:lnTo>
                      <a:pt x="114" y="257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4600" cy="70200"/>
              </a:xfrm>
              <a:custGeom>
                <a:avLst/>
                <a:gdLst/>
                <a:ahLst/>
                <a:rect l="0" t="0" r="r" b="b"/>
                <a:pathLst>
                  <a:path w="235" h="195">
                    <a:moveTo>
                      <a:pt x="117" y="195"/>
                    </a:moveTo>
                    <a:lnTo>
                      <a:pt x="235" y="98"/>
                    </a:lnTo>
                    <a:lnTo>
                      <a:pt x="117" y="0"/>
                    </a:lnTo>
                    <a:lnTo>
                      <a:pt x="0" y="98"/>
                    </a:lnTo>
                    <a:lnTo>
                      <a:pt x="117" y="195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4240" cy="954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6280" cy="111600"/>
              </a:xfrm>
              <a:custGeom>
                <a:avLst/>
                <a:gdLst/>
                <a:ahLst/>
                <a:rect l="0" t="0" r="r" b="b"/>
                <a:pathLst>
                  <a:path w="323" h="310">
                    <a:moveTo>
                      <a:pt x="161" y="310"/>
                    </a:moveTo>
                    <a:lnTo>
                      <a:pt x="323" y="155"/>
                    </a:lnTo>
                    <a:lnTo>
                      <a:pt x="161" y="0"/>
                    </a:lnTo>
                    <a:lnTo>
                      <a:pt x="0" y="155"/>
                    </a:lnTo>
                    <a:lnTo>
                      <a:pt x="161" y="310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840" cy="93960"/>
              </a:xfrm>
              <a:custGeom>
                <a:avLst/>
                <a:gdLst/>
                <a:ahLst/>
                <a:rect l="0" t="0" r="r" b="b"/>
                <a:pathLst>
                  <a:path w="319" h="261">
                    <a:moveTo>
                      <a:pt x="159" y="261"/>
                    </a:moveTo>
                    <a:lnTo>
                      <a:pt x="319" y="131"/>
                    </a:lnTo>
                    <a:lnTo>
                      <a:pt x="159" y="0"/>
                    </a:lnTo>
                    <a:lnTo>
                      <a:pt x="0" y="131"/>
                    </a:lnTo>
                    <a:lnTo>
                      <a:pt x="159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6040" cy="70200"/>
              </a:xfrm>
              <a:custGeom>
                <a:avLst/>
                <a:gdLst/>
                <a:ahLst/>
                <a:rect l="0" t="0" r="r" b="b"/>
                <a:pathLst>
                  <a:path w="239" h="195">
                    <a:moveTo>
                      <a:pt x="120" y="195"/>
                    </a:moveTo>
                    <a:lnTo>
                      <a:pt x="239" y="98"/>
                    </a:lnTo>
                    <a:lnTo>
                      <a:pt x="120" y="0"/>
                    </a:lnTo>
                    <a:lnTo>
                      <a:pt x="0" y="98"/>
                    </a:lnTo>
                    <a:lnTo>
                      <a:pt x="120" y="195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440" cy="6791760"/>
              <a:chOff x="139680" y="25560"/>
              <a:chExt cx="2305440" cy="679176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560" cy="73440"/>
              </a:xfrm>
              <a:custGeom>
                <a:avLst/>
                <a:gdLst/>
                <a:ahLst/>
                <a:rect l="0" t="0" r="r" b="b"/>
                <a:pathLst>
                  <a:path w="221" h="204">
                    <a:moveTo>
                      <a:pt x="111" y="204"/>
                    </a:moveTo>
                    <a:lnTo>
                      <a:pt x="221" y="102"/>
                    </a:lnTo>
                    <a:lnTo>
                      <a:pt x="111" y="0"/>
                    </a:lnTo>
                    <a:lnTo>
                      <a:pt x="0" y="102"/>
                    </a:lnTo>
                    <a:lnTo>
                      <a:pt x="111" y="20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760" cy="76680"/>
              </a:xfrm>
              <a:custGeom>
                <a:avLst/>
                <a:gdLst/>
                <a:ahLst/>
                <a:rect l="0" t="0" r="r" b="b"/>
                <a:pathLst>
                  <a:path w="191" h="213">
                    <a:moveTo>
                      <a:pt x="95" y="213"/>
                    </a:moveTo>
                    <a:lnTo>
                      <a:pt x="191" y="106"/>
                    </a:lnTo>
                    <a:lnTo>
                      <a:pt x="95" y="0"/>
                    </a:lnTo>
                    <a:lnTo>
                      <a:pt x="0" y="106"/>
                    </a:lnTo>
                    <a:lnTo>
                      <a:pt x="95" y="21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560" cy="92520"/>
              </a:xfrm>
              <a:custGeom>
                <a:avLst/>
                <a:gdLst/>
                <a:ahLst/>
                <a:rect l="0" t="0" r="r" b="b"/>
                <a:pathLst>
                  <a:path w="221" h="257">
                    <a:moveTo>
                      <a:pt x="111" y="257"/>
                    </a:moveTo>
                    <a:lnTo>
                      <a:pt x="221" y="128"/>
                    </a:lnTo>
                    <a:lnTo>
                      <a:pt x="111" y="0"/>
                    </a:lnTo>
                    <a:lnTo>
                      <a:pt x="0" y="128"/>
                    </a:lnTo>
                    <a:lnTo>
                      <a:pt x="111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600" cy="6763320"/>
              <a:chOff x="133200" y="82440"/>
              <a:chExt cx="2856600" cy="676332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6280" cy="6698160"/>
                <a:chOff x="141120" y="82440"/>
                <a:chExt cx="2726280" cy="6698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360" cy="93960"/>
                </a:xfrm>
                <a:custGeom>
                  <a:avLst/>
                  <a:gdLst/>
                  <a:ahLst/>
                  <a:rect l="0" t="0" r="r" b="b"/>
                  <a:pathLst>
                    <a:path w="226" h="261">
                      <a:moveTo>
                        <a:pt x="113" y="261"/>
                      </a:moveTo>
                      <a:lnTo>
                        <a:pt x="226" y="131"/>
                      </a:lnTo>
                      <a:lnTo>
                        <a:pt x="113" y="0"/>
                      </a:lnTo>
                      <a:lnTo>
                        <a:pt x="0" y="131"/>
                      </a:lnTo>
                      <a:lnTo>
                        <a:pt x="113" y="261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9280" cy="63720"/>
                </a:xfrm>
                <a:custGeom>
                  <a:avLst/>
                  <a:gdLst/>
                  <a:ahLst/>
                  <a:rect l="0" t="0" r="r" b="b"/>
                  <a:pathLst>
                    <a:path w="248" h="177">
                      <a:moveTo>
                        <a:pt x="124" y="177"/>
                      </a:moveTo>
                      <a:lnTo>
                        <a:pt x="248" y="89"/>
                      </a:lnTo>
                      <a:lnTo>
                        <a:pt x="124" y="0"/>
                      </a:lnTo>
                      <a:lnTo>
                        <a:pt x="0" y="89"/>
                      </a:lnTo>
                      <a:lnTo>
                        <a:pt x="124" y="177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6040" cy="95760"/>
                </a:xfrm>
                <a:custGeom>
                  <a:avLst/>
                  <a:gdLst/>
                  <a:ahLst/>
                  <a:rect l="0" t="0" r="r" b="b"/>
                  <a:pathLst>
                    <a:path w="239" h="266">
                      <a:moveTo>
                        <a:pt x="120" y="266"/>
                      </a:moveTo>
                      <a:lnTo>
                        <a:pt x="239" y="133"/>
                      </a:lnTo>
                      <a:lnTo>
                        <a:pt x="120" y="0"/>
                      </a:lnTo>
                      <a:lnTo>
                        <a:pt x="0" y="133"/>
                      </a:lnTo>
                      <a:lnTo>
                        <a:pt x="120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920" cy="105120"/>
                </a:xfrm>
                <a:custGeom>
                  <a:avLst/>
                  <a:gdLst/>
                  <a:ahLst/>
                  <a:rect l="0" t="0" r="r" b="b"/>
                  <a:pathLst>
                    <a:path w="147" h="292">
                      <a:moveTo>
                        <a:pt x="73" y="292"/>
                      </a:moveTo>
                      <a:lnTo>
                        <a:pt x="147" y="145"/>
                      </a:lnTo>
                      <a:lnTo>
                        <a:pt x="73" y="0"/>
                      </a:lnTo>
                      <a:lnTo>
                        <a:pt x="0" y="145"/>
                      </a:lnTo>
                      <a:lnTo>
                        <a:pt x="73" y="29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0760" cy="57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600" cy="44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480" cy="65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4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40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22860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iseño de Interfase Hombre-Máqu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sion 6: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positivos de Inte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Tipos de dispositivos de vo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ación de 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gitalización de 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609480"/>
            <a:ext cx="777240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conocimiento, digitalización y generación de vo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onocimiento de pala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onocimiento continuo del ha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rreo de 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ación de sonido - aplicaciones de telefon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úsica y efectos de a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ispositivos de telefon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rjeta reconocedora de t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núes por teléf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ispositivos de desplie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nocromá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nitores a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ágenes d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lecon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staciones de trabajo con múltiples moni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lic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isma imagen, repet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ágenes disti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Proy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ta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ñ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aptura de imagen y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ámaras digi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ca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gitalización de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ve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ideocáma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ispositivos futur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d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tectores de movimientos oc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alidad vir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vate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taG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ye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ocer diversidad de dispositivos de inter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alizar su uso para el Diseño de Interf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ispositivos de interacció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positivos apun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nido, voz y t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agen y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Tecl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rganización o diseño de tec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las de fu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las de cur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ispositivos apunt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r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dir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puntadores Dir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uma lumin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uch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ltiple touch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umas, sty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puntadores Indir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at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rack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y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bleta de dibu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omparación entre disposi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apidez en tareas: ventaja tec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fectos de la distancia: ventaja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y de Fi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maño vs. tiempo de respu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o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cinas y micróf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ad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rjetas de so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ú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f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UNO GUARDIA ROBLES</dc:creator>
  <dc:description/>
  <dc:language>en-US</dc:language>
  <cp:lastModifiedBy>BRUNO GUARDIA ROBLES</cp:lastModifiedBy>
  <cp:revision>0</cp:revision>
  <dc:subject/>
  <dc:title>DIHM-4</dc:title>
</cp:coreProperties>
</file>