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9040" cy="3416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2960" cy="6845400"/>
            <a:chOff x="44280" y="0"/>
            <a:chExt cx="32529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240" cy="6836040"/>
              <a:chOff x="108000" y="9360"/>
              <a:chExt cx="318924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200" cy="939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892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400"/>
              <a:chOff x="69840" y="0"/>
              <a:chExt cx="2976480" cy="684540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000" cy="936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568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196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8920" cy="648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3880" cy="95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9280" cy="6772320"/>
              <a:chOff x="44280" y="73080"/>
              <a:chExt cx="2789280" cy="677232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5680" cy="68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9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440" cy="92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2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38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120" cy="65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8920" cy="637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1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388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24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56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080" cy="6791040"/>
              <a:chOff x="139680" y="25560"/>
              <a:chExt cx="2305080" cy="679104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24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388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000" cy="93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48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120" cy="65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892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0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064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40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240" cy="6762960"/>
              <a:chOff x="133200" y="82440"/>
              <a:chExt cx="2856240" cy="67629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5920" cy="6697800"/>
                <a:chOff x="141120" y="82440"/>
                <a:chExt cx="2725920" cy="6697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000" cy="93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8920" cy="6372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38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56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200" cy="1047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24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56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8920" cy="6516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112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960" cy="44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480" cy="684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8920" cy="666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12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24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040" cy="70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eño de Interfase Hombre-Máquin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esion 6:</a:t>
            </a:r>
            <a:br>
              <a:rPr sz="3200"/>
            </a:b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ispositivos de Interac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Tipos de dispositivos de voz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Generación de voz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igitalización de voz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Reconocimiento, digitalización y generación de voz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econocimiento de palabr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econocimiento continuo del habl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rreo de voz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Generación de sonido - aplicaciones de telefoní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úsica y efectos de aud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positivos de telefoní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arjeta reconocedora de ton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enúes por teléfon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positivos de despliegue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onocromátic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onitores a colo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Imágenes de vide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Teleconferenci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Estaciones de trabajo con múltiples monitore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plicacione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isma imagen, repetid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Imágenes distint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Proyectore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ata Show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añon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Captura de imagen y vide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ámaras digital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canner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igitalización de vide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onvers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Videocámar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positivos futuros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edal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etectores de movimientos ocular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Realidad virtual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rivateEy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ataGlov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yePhon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Objetivos de la ses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nocer diversidad de dispositivos de interacció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nalizar su uso para el Diseño de Interfa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positivos de interacción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ecla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ispositivos apuntador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onido, voz y ton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Imagen y vide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Teclad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Organización o diseño de tecl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ecl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eclas de fun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eclas de curso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positivos apuntadore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irect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Indirect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Apuntadores Directo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luma luminos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ouchscree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ultiple touchscree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lumas, stylu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Apuntadores Indirecto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at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rackbal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Joystick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ableta de dibuj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Comparación entre dispositivo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apidez en tareas: ventaja tecla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fectos de la distancia: ventaja mou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ey de Fit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Tamaño vs. tiempo de respuest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Sonid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Bocinas y micrófon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Extern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Diadem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onsideracion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arjetas de soni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Músic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Efect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1T23:51:54Z</dcterms:created>
  <dc:creator>BRUNO GUARDIA ROBLES</dc:creator>
  <dc:description/>
  <dc:language>en-US</dc:language>
  <cp:lastModifiedBy>carlos</cp:lastModifiedBy>
  <cp:lastPrinted>2009-04-22T19:24:48Z</cp:lastPrinted>
  <dcterms:modified xsi:type="dcterms:W3CDTF">1999-04-09T08:05:07Z</dcterms:modified>
  <cp:revision>1</cp:revision>
  <dc:subject/>
  <dc:title>DIHM-4</dc:title>
</cp:coreProperties>
</file>