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2960" cy="6845400"/>
            <a:chOff x="44280" y="0"/>
            <a:chExt cx="32529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240" cy="6836040"/>
              <a:chOff x="108000" y="9360"/>
              <a:chExt cx="318924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200" cy="939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892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400"/>
              <a:chOff x="69840" y="0"/>
              <a:chExt cx="2976480" cy="684540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000" cy="936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568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196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8920" cy="648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3880" cy="95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9280" cy="6772320"/>
              <a:chOff x="44280" y="73080"/>
              <a:chExt cx="2789280" cy="677232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5680" cy="68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9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440" cy="92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2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38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120" cy="65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8920" cy="637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1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388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24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56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080" cy="6791040"/>
              <a:chOff x="139680" y="25560"/>
              <a:chExt cx="2305080" cy="679104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24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388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000" cy="93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48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120" cy="65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892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0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064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40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240" cy="6762960"/>
              <a:chOff x="133200" y="82440"/>
              <a:chExt cx="2856240" cy="67629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5920" cy="6697800"/>
                <a:chOff x="141120" y="82440"/>
                <a:chExt cx="2725920" cy="6697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000" cy="93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8920" cy="6372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38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56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200" cy="1047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24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56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8920" cy="6516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112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960" cy="44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480" cy="684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8920" cy="666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12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24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040" cy="70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4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4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4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eño de Interfase Hombre-Máquin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esion 12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yuda en línea, manuales impresos y tutorial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Guías para manual de usuario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n el proces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Buscar escritores y editores profesion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Preparar los manuales antes que la implementa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Revisar a conciencia los borrador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Probar en el campo las primeras edicion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Proporcionar un mecanismo de retroalimenta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Revisiones frecuent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Preparación de apoyos en líne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anual en líne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istas por palabra clav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apas de menú y referencias de tecla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yuda sensitiva a context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utoriales, demos y animacion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Razones para apoyos en líne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isponible donde se encuentra la computadora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No ocupan espacio de trabaj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ctualización rápida y a bajo cost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Búsqueda por índice o de text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osibilidades gráficas, de sonido, color y anim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esventajas de apoyos en líne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enos legibilida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enos capacidad de información en el espac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anejo más complejo para usuarios nuev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a pantalla está compartid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Manual en líne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rincipal ventaja: Rapidez para producirs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l unir la búsqueda, se convierte en una herramienta eficien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Ventajas generales del hipertexto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Anotacion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Bookmark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Histori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Listas por palabra clave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encill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rt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cciones clave que se pueden realizar en el moment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grupación por concept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apas de menú y referencias de tecla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Ayuda sensitiva a context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xtensión de las listas por palabra clav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écnica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Tooltip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Ballon help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Búsqueda por palabra en pantall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Mensajes de estatu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Tutoriales, demos y animacione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Ventajas de tutoriales en línea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No hay distracción entre el tutorial y manejar el program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e practican las habilidades necesarias para usar el sistem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Guías útile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Lenguaje natural y ayuda inteligente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Uso del diálogo en lenguaje natur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ómo reconocer los problemas del usuar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sistent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roblema: los usuarios son sumamente creativos, en cuanto a errores y malos entendid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Objetivos de la ses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evisar las guías para la creación de material de referencia efectivo para hacer productivos los sistem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nalizar los factores que se afectan mediante este material, y permiten optimizar el desempeño del usuari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03360" y="1984320"/>
          <a:ext cx="6040440" cy="40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1984320"/>
                    <a:ext cx="60404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Papel contra pantall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egibilidad: fuentes, resolu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lor: contraste apropiado, luz emitida vs. reflejad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ostura y distanci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ambio frecuente de págin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Últimos resultados: pantallas planas, mayor resolución, antialiasing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Preparación de manuales impreso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xperimentos: método estándar contra espiral, ejemplos frecuentes, redacción no técnica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Uso de un modelo: SSOA: syntactic-semantic user-action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Preparación de manuales impreso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Organización y estil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Indicar objetiv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Información fácil de encontrar y entender, y que sea suficiente para la tare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ntropomorfism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entrado en la computadora -&gt; Usuario -&gt; Tare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Preparación de manuales impreso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Proceso de desarrol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sarrollar especificaciones: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4000"/>
              <a:buFont typeface="Monotype Sort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or tareas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4000"/>
              <a:buFont typeface="Monotype Sort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Dirigido a distintas audiencias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4000"/>
              <a:buFont typeface="Monotype Sort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Poner objetivos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4000"/>
              <a:buFont typeface="Monotype Sort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Diseñar la organización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Prototip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Borrador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Edició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Revisió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Prueba de camp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Publicació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Revisión postproyect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Mantenimiento y actualizació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Guías para manual de usuario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n el product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Organización por tareas del usuari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ecuencia asociada al proceso de aprendizaje del usuari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emántica antes que sintax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Estilo limpio y simpl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Numerosos ejempl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Guías para manual de usuario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n el product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esiones completas y significativas como ejemp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Diagramas de transi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Resúmenes y objetiv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Tabla de contenido, índice y glosari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Lista de mensajes de erro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rédito a todos los participant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2T18:03:30Z</dcterms:created>
  <dc:creator>Bruno Guardia</dc:creator>
  <dc:description/>
  <dc:language>en-US</dc:language>
  <cp:lastModifiedBy>carlos</cp:lastModifiedBy>
  <dcterms:modified xsi:type="dcterms:W3CDTF">1999-04-09T08:13:50Z</dcterms:modified>
  <cp:revision>1</cp:revision>
  <dc:subject/>
  <dc:title>Diseño de Interfase Hombre-Máquina</dc:title>
</cp:coreProperties>
</file>