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on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yuda en línea, manuales impresos y tuto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para manual de usu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scar escritores y editore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parar los manuales antes qu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sar a conciencia los borr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bar en el campo las primeras e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porcionar un mecanismo de retro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eparación de apoyos en lí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ual en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as por palabra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pas de menú y referencias de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yuda sensitiva a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utoriales, demos y anim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azones para apoyos en lí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ponible donde se encuentra la computa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cupan espaci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ualización rápida y a bajo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úsqueda por índice o de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ibilidades gráficas, de sonido, color y ani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esventajas de apoyos en lí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nos le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nos capacidad de información en el espa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ejo más complejo para usuarios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pantalla está compa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anual en lí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cipal ventaja: Rapidez para produci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 unir la búsqueda, se convierte en una herramienta e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ntajas generales del hiper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o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ok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istas por palabra cl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c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iones clave que se pueden realizar en el mo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rupación por 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pas de menú y referencias de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yuda sensitiva a con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ón de las listas por palabra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écn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l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lo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úsqueda por palabra en panta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nsajes de e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utoriales, demos y anim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ntajas de tutoriales en lín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hay distracción entre el tutorial y manejar el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 practican las habilidades necesarias para usar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ú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nguaje natural y ayuda inteli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o del diálogo en lenguaje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ómo reconocer los problemas del usu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ma: los usuarios son sumamente creativos, en cuanto a errores y malos entend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sar las guías para la creación de material de referencia efectivo para hacer productivos los sist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izar los factores que se afectan mediante este material, y permiten optimizar el desempeño del usu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03360" y="1984320"/>
            <a:ext cx="60404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apel contra panta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gibilidad: fuentes, re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or: contraste apropiado, luz emitida vs. reflej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tura y dis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mbio frecuente de pág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Últimos resultados: pantallas planas, mayor resolución, antiali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eparación de manuales impr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erimentos: método estándar contra espiral, ejemplos frecuentes, redacción no técn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o de un modelo: SSOA: syntactic-semantic user-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eparación de manuales impr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ganización y est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car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formación fácil de encontrar y entender, y que sea suficiente para la t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tropomorf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ntrado en la computadora -&gt; Usuario -&gt; T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eparación de manuales impr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5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o de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arrollar especificaci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r t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rigido a distintas aud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ner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eñar la organ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r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ueba de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b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visión post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ntenimiento y ac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para manual de usu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ación por tareas de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cuencia asociada al proceso de aprendizaje del usu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ántica antes que 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lo limpio 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erosos 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Guías para manual de usuari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 el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siones completas y significativas como 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gramas de tran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úmenes y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a de contenido, índice y glos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a de mensaje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édito a todos los particip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</dc:creator>
  <dc:description/>
  <dc:language>en-US</dc:language>
  <cp:lastModifiedBy>Bruno Guardia</cp:lastModifiedBy>
  <cp:revision>0</cp:revision>
  <dc:subject/>
  <dc:title>Diseño de Interfase Hombre-Máquina</dc:title>
</cp:coreProperties>
</file>